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7.png" ContentType="image/png"/>
  <Override PartName="/ppt/media/image4.jpeg" ContentType="image/jpe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media/image6.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 id="292" r:id="rId79"/>
    <p:sldId id="293" r:id="rId80"/>
    <p:sldId id="294" r:id="rId81"/>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slide" Target="slides/slide37.xml"/><Relationship Id="rId80" Type="http://schemas.openxmlformats.org/officeDocument/2006/relationships/slide" Target="slides/slide38.xml"/><Relationship Id="rId81" Type="http://schemas.openxmlformats.org/officeDocument/2006/relationships/slide" Target="slides/slide39.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886B-9479-4CA0-B569-9A32D8B524B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50920" y="698400"/>
            <a:ext cx="4653000" cy="3490920"/>
          </a:xfrm>
          <a:prstGeom prst="rect">
            <a:avLst/>
          </a:prstGeom>
          <a:ln w="0">
            <a:noFill/>
          </a:ln>
        </p:spPr>
      </p:sp>
      <p:sp>
        <p:nvSpPr>
          <p:cNvPr id="175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D998-9D60-4A59-85F0-01AB12888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A08A-CC1B-4E29-94E8-4C43D27562A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772" name="Rectangle 7"/>
          <p:cNvSpPr/>
          <p:nvPr/>
        </p:nvSpPr>
        <p:spPr>
          <a:xfrm>
            <a:off x="3940200" y="8842320"/>
            <a:ext cx="3013200" cy="4651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6F62-954F-4B65-A2D6-081C75BAE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3" name="PlaceHolder 1"/>
          <p:cNvSpPr>
            <a:spLocks noGrp="1"/>
          </p:cNvSpPr>
          <p:nvPr>
            <p:ph type="sldImg"/>
          </p:nvPr>
        </p:nvSpPr>
        <p:spPr>
          <a:xfrm>
            <a:off x="1150920" y="698400"/>
            <a:ext cx="4653000" cy="3490920"/>
          </a:xfrm>
          <a:prstGeom prst="rect">
            <a:avLst/>
          </a:prstGeom>
          <a:ln w="0">
            <a:noFill/>
          </a:ln>
        </p:spPr>
      </p:sp>
      <p:sp>
        <p:nvSpPr>
          <p:cNvPr id="177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507E-11FC-40C3-87BE-1193C1307BC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776" name="PlaceHolder 1"/>
          <p:cNvSpPr>
            <a:spLocks noGrp="1"/>
          </p:cNvSpPr>
          <p:nvPr>
            <p:ph type="sldImg"/>
          </p:nvPr>
        </p:nvSpPr>
        <p:spPr>
          <a:xfrm>
            <a:off x="1150920" y="698400"/>
            <a:ext cx="4653000" cy="3490920"/>
          </a:xfrm>
          <a:prstGeom prst="rect">
            <a:avLst/>
          </a:prstGeom>
          <a:ln w="0">
            <a:noFill/>
          </a:ln>
        </p:spPr>
      </p:sp>
      <p:sp>
        <p:nvSpPr>
          <p:cNvPr id="177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50920" y="698400"/>
            <a:ext cx="4653000" cy="3490920"/>
          </a:xfrm>
          <a:prstGeom prst="rect">
            <a:avLst/>
          </a:prstGeom>
          <a:ln w="0">
            <a:noFill/>
          </a:ln>
        </p:spPr>
      </p:sp>
      <p:sp>
        <p:nvSpPr>
          <p:cNvPr id="177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CAD3-95FD-4E18-ABFE-4C818263D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50920" y="698400"/>
            <a:ext cx="4653000" cy="3490920"/>
          </a:xfrm>
          <a:prstGeom prst="rect">
            <a:avLst/>
          </a:prstGeom>
          <a:ln w="0">
            <a:noFill/>
          </a:ln>
        </p:spPr>
      </p:sp>
      <p:sp>
        <p:nvSpPr>
          <p:cNvPr id="178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als work in teams of three or four and come up with their ideas on chart paper </a:t>
            </a:r>
            <a:endParaRPr b="0" lang="en-US" sz="1200" spc="-1" strike="noStrike">
              <a:solidFill>
                <a:srgbClr val="000000"/>
              </a:solidFill>
              <a:latin typeface="Calibri"/>
            </a:endParaRPr>
          </a:p>
        </p:txBody>
      </p:sp>
      <p:sp>
        <p:nvSpPr>
          <p:cNvPr id="178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1FDC-51BF-49B0-942E-8F85E1F9AE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50920" y="698400"/>
            <a:ext cx="4653000" cy="3490920"/>
          </a:xfrm>
          <a:prstGeom prst="rect">
            <a:avLst/>
          </a:prstGeom>
          <a:ln w="0">
            <a:noFill/>
          </a:ln>
        </p:spPr>
      </p:sp>
      <p:sp>
        <p:nvSpPr>
          <p:cNvPr id="178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C17D-1F31-400E-8741-8E32AB1CB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50920" y="698400"/>
            <a:ext cx="4653000" cy="3490920"/>
          </a:xfrm>
          <a:prstGeom prst="rect">
            <a:avLst/>
          </a:prstGeom>
          <a:ln w="0">
            <a:noFill/>
          </a:ln>
        </p:spPr>
      </p:sp>
      <p:sp>
        <p:nvSpPr>
          <p:cNvPr id="178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1228-FE2C-4CC4-AD10-CA4220B36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50920" y="698400"/>
            <a:ext cx="4653000" cy="3490920"/>
          </a:xfrm>
          <a:prstGeom prst="rect">
            <a:avLst/>
          </a:prstGeom>
          <a:ln w="0">
            <a:noFill/>
          </a:ln>
        </p:spPr>
      </p:sp>
      <p:sp>
        <p:nvSpPr>
          <p:cNvPr id="179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C7DB-6439-4514-A164-ECEA7D4896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50920" y="698400"/>
            <a:ext cx="4653000" cy="3490920"/>
          </a:xfrm>
          <a:prstGeom prst="rect">
            <a:avLst/>
          </a:prstGeom>
          <a:ln w="0">
            <a:noFill/>
          </a:ln>
        </p:spPr>
      </p:sp>
      <p:sp>
        <p:nvSpPr>
          <p:cNvPr id="179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4ABB-B12E-4378-A1B9-48B88C801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50920" y="698400"/>
            <a:ext cx="4653000" cy="3490920"/>
          </a:xfrm>
          <a:prstGeom prst="rect">
            <a:avLst/>
          </a:prstGeom>
          <a:ln w="0">
            <a:noFill/>
          </a:ln>
        </p:spPr>
      </p:sp>
      <p:sp>
        <p:nvSpPr>
          <p:cNvPr id="179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A372-AE96-4BF8-ACEC-9C841A23C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50920" y="698400"/>
            <a:ext cx="4653000" cy="3490920"/>
          </a:xfrm>
          <a:prstGeom prst="rect">
            <a:avLst/>
          </a:prstGeom>
          <a:ln w="0">
            <a:noFill/>
          </a:ln>
        </p:spPr>
      </p:sp>
      <p:sp>
        <p:nvSpPr>
          <p:cNvPr id="180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E008-543B-48B8-9078-A0629BE8A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50920" y="698400"/>
            <a:ext cx="4653000" cy="3490920"/>
          </a:xfrm>
          <a:prstGeom prst="rect">
            <a:avLst/>
          </a:prstGeom>
          <a:ln w="0">
            <a:noFill/>
          </a:ln>
        </p:spPr>
      </p:sp>
      <p:sp>
        <p:nvSpPr>
          <p:cNvPr id="180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sidemathematics.org/index.php/tools-for-teac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 Vide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Peri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C6F3-E85A-4FE4-A1CF-30D158B1B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50920" y="698400"/>
            <a:ext cx="4653000" cy="3490920"/>
          </a:xfrm>
          <a:prstGeom prst="rect">
            <a:avLst/>
          </a:prstGeom>
          <a:ln w="0">
            <a:noFill/>
          </a:ln>
        </p:spPr>
      </p:sp>
      <p:sp>
        <p:nvSpPr>
          <p:cNvPr id="180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BC6F-4F09-42A9-86C0-5982E6182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50920" y="698400"/>
            <a:ext cx="4653000" cy="3490920"/>
          </a:xfrm>
          <a:prstGeom prst="rect">
            <a:avLst/>
          </a:prstGeom>
          <a:ln w="0">
            <a:noFill/>
          </a:ln>
        </p:spPr>
      </p:sp>
      <p:sp>
        <p:nvSpPr>
          <p:cNvPr id="180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A341-D59C-41C3-A20C-FD3FB26E3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50920" y="698400"/>
            <a:ext cx="4653000" cy="3490920"/>
          </a:xfrm>
          <a:prstGeom prst="rect">
            <a:avLst/>
          </a:prstGeom>
          <a:ln w="0">
            <a:noFill/>
          </a:ln>
        </p:spPr>
      </p:sp>
      <p:sp>
        <p:nvSpPr>
          <p:cNvPr id="175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B980-D42C-4485-89F8-DEEFFEA49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50920" y="698400"/>
            <a:ext cx="4653000" cy="3490920"/>
          </a:xfrm>
          <a:prstGeom prst="rect">
            <a:avLst/>
          </a:prstGeom>
          <a:ln w="0">
            <a:noFill/>
          </a:ln>
        </p:spPr>
      </p:sp>
      <p:sp>
        <p:nvSpPr>
          <p:cNvPr id="181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7C91-5C95-4115-B7FD-21A696685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50920" y="698400"/>
            <a:ext cx="4653000" cy="3490920"/>
          </a:xfrm>
          <a:prstGeom prst="rect">
            <a:avLst/>
          </a:prstGeom>
          <a:ln w="0">
            <a:noFill/>
          </a:ln>
        </p:spPr>
      </p:sp>
      <p:sp>
        <p:nvSpPr>
          <p:cNvPr id="181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0641-EDEE-4BF8-8E7E-E166E706F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50920" y="698400"/>
            <a:ext cx="4653000" cy="3490920"/>
          </a:xfrm>
          <a:prstGeom prst="rect">
            <a:avLst/>
          </a:prstGeom>
          <a:ln w="0">
            <a:noFill/>
          </a:ln>
        </p:spPr>
      </p:sp>
      <p:sp>
        <p:nvSpPr>
          <p:cNvPr id="181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Perimeter Problem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with lesson and have principals record additional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m to talk around their table to see what common thing they recorded about the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  “What did you observe that showed how students interact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6580-DEA0-495F-8F7C-7B3FDE75F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50920" y="698400"/>
            <a:ext cx="4653000" cy="3490920"/>
          </a:xfrm>
          <a:prstGeom prst="rect">
            <a:avLst/>
          </a:prstGeom>
          <a:ln w="0">
            <a:noFill/>
          </a:ln>
        </p:spPr>
      </p:sp>
      <p:sp>
        <p:nvSpPr>
          <p:cNvPr id="182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m time to discuss what they would say to the teacher in a Post Observation conference.</a:t>
            </a:r>
            <a:endParaRPr b="0" lang="en-US" sz="1200" spc="-1" strike="noStrike">
              <a:solidFill>
                <a:srgbClr val="000000"/>
              </a:solidFill>
              <a:latin typeface="Calibri"/>
            </a:endParaRPr>
          </a:p>
        </p:txBody>
      </p:sp>
      <p:sp>
        <p:nvSpPr>
          <p:cNvPr id="182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7802-7CA3-49E1-A646-E62A55010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50920" y="698400"/>
            <a:ext cx="4653000" cy="3490920"/>
          </a:xfrm>
          <a:prstGeom prst="rect">
            <a:avLst/>
          </a:prstGeom>
          <a:ln w="0">
            <a:noFill/>
          </a:ln>
        </p:spPr>
      </p:sp>
      <p:sp>
        <p:nvSpPr>
          <p:cNvPr id="182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ll</a:t>
            </a:r>
            <a:endParaRPr b="0" lang="en-US" sz="1200" spc="-1" strike="noStrike">
              <a:solidFill>
                <a:srgbClr val="000000"/>
              </a:solidFill>
              <a:latin typeface="Calibri"/>
            </a:endParaRPr>
          </a:p>
        </p:txBody>
      </p:sp>
      <p:sp>
        <p:nvSpPr>
          <p:cNvPr id="182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E00C-D9A8-44DF-9089-6031C7DEA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sldImg"/>
          </p:nvPr>
        </p:nvSpPr>
        <p:spPr>
          <a:xfrm>
            <a:off x="1150920" y="698400"/>
            <a:ext cx="4653000" cy="3490920"/>
          </a:xfrm>
          <a:prstGeom prst="rect">
            <a:avLst/>
          </a:prstGeom>
          <a:ln w="0">
            <a:noFill/>
          </a:ln>
        </p:spPr>
      </p:sp>
      <p:sp>
        <p:nvSpPr>
          <p:cNvPr id="182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D84D-DCA3-498E-B7B6-5B2560765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150920" y="698400"/>
            <a:ext cx="4653000" cy="3490920"/>
          </a:xfrm>
          <a:prstGeom prst="rect">
            <a:avLst/>
          </a:prstGeom>
          <a:ln w="0">
            <a:noFill/>
          </a:ln>
        </p:spPr>
      </p:sp>
      <p:sp>
        <p:nvSpPr>
          <p:cNvPr id="183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EB98-4DA9-473A-B7FA-9F7AD5C65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50920" y="698400"/>
            <a:ext cx="4653000" cy="3490920"/>
          </a:xfrm>
          <a:prstGeom prst="rect">
            <a:avLst/>
          </a:prstGeom>
          <a:ln w="0">
            <a:noFill/>
          </a:ln>
        </p:spPr>
      </p:sp>
      <p:sp>
        <p:nvSpPr>
          <p:cNvPr id="176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To get us started, we are going to complete an affinity diagr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n Affinity Diagram is created when a group generates and organizes ideas SLIENTLY.  Silence ensures that every voice is heard and meets learning style needs and multiple intelligence needs of individuals who need time to think first.  An affinity is a great way to differentiate a classroom activity. Similarities in thinking will emerge through this process, resulting in an Affinity diagr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Explain directions.  Provide </a:t>
            </a:r>
            <a:r>
              <a:rPr b="1" lang="en-US" sz="1200" spc="-1" strike="noStrike">
                <a:solidFill>
                  <a:srgbClr val="000000"/>
                </a:solidFill>
                <a:latin typeface="Arial"/>
                <a:ea typeface="ヒラギノ角ゴ Pro W3"/>
              </a:rPr>
              <a:t>2 minutes </a:t>
            </a:r>
            <a:r>
              <a:rPr b="0" lang="en-US" sz="1200" spc="-1" strike="noStrike">
                <a:solidFill>
                  <a:srgbClr val="000000"/>
                </a:solidFill>
                <a:latin typeface="Arial"/>
                <a:ea typeface="ヒラギノ角ゴ Pro W3"/>
              </a:rPr>
              <a:t>for this pa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fter the timer goes off, go over the </a:t>
            </a:r>
            <a:r>
              <a:rPr b="1" lang="en-US" sz="1200" spc="-1" strike="noStrike">
                <a:solidFill>
                  <a:srgbClr val="000000"/>
                </a:solidFill>
                <a:latin typeface="Arial"/>
                <a:ea typeface="ヒラギノ角ゴ Pro W3"/>
              </a:rPr>
              <a:t>WHOLE GROUP </a:t>
            </a:r>
            <a:r>
              <a:rPr b="0" lang="en-US" sz="1200" spc="-1" strike="noStrike">
                <a:solidFill>
                  <a:srgbClr val="000000"/>
                </a:solidFill>
                <a:latin typeface="Arial"/>
                <a:ea typeface="ヒラギノ角ゴ Pro W3"/>
              </a:rPr>
              <a:t>direc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Give them </a:t>
            </a:r>
            <a:r>
              <a:rPr b="1" lang="en-US" sz="1200" spc="-1" strike="noStrike">
                <a:solidFill>
                  <a:srgbClr val="000000"/>
                </a:solidFill>
                <a:latin typeface="Arial"/>
                <a:ea typeface="ヒラギノ角ゴ Pro W3"/>
              </a:rPr>
              <a:t>5 minutes </a:t>
            </a:r>
            <a:r>
              <a:rPr b="0" lang="en-US" sz="1200" spc="-1" strike="noStrike">
                <a:solidFill>
                  <a:srgbClr val="000000"/>
                </a:solidFill>
                <a:latin typeface="Arial"/>
                <a:ea typeface="ヒラギノ角ゴ Pro W3"/>
              </a:rPr>
              <a:t>to complete this activity.  </a:t>
            </a:r>
            <a:endParaRPr b="0" lang="en-US" sz="1200" spc="-1" strike="noStrike">
              <a:solidFill>
                <a:srgbClr val="000000"/>
              </a:solidFill>
              <a:latin typeface="Calibri"/>
            </a:endParaRPr>
          </a:p>
        </p:txBody>
      </p:sp>
      <p:sp>
        <p:nvSpPr>
          <p:cNvPr id="176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81D5-53CE-425D-89E7-C5B32F521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50920" y="698400"/>
            <a:ext cx="4653000" cy="3490920"/>
          </a:xfrm>
          <a:prstGeom prst="rect">
            <a:avLst/>
          </a:prstGeom>
          <a:ln w="0">
            <a:noFill/>
          </a:ln>
        </p:spPr>
      </p:sp>
      <p:sp>
        <p:nvSpPr>
          <p:cNvPr id="176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9F69-1244-4D1A-9F70-CEC206F83E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50920" y="698400"/>
            <a:ext cx="4653000" cy="3490920"/>
          </a:xfrm>
          <a:prstGeom prst="rect">
            <a:avLst/>
          </a:prstGeom>
          <a:ln w="0">
            <a:noFill/>
          </a:ln>
        </p:spPr>
      </p:sp>
      <p:sp>
        <p:nvSpPr>
          <p:cNvPr id="176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076C-F3EC-4A3C-AD2F-350C3F5FA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50920" y="698400"/>
            <a:ext cx="4653000" cy="3490920"/>
          </a:xfrm>
          <a:prstGeom prst="rect">
            <a:avLst/>
          </a:prstGeom>
          <a:ln w="0">
            <a:noFill/>
          </a:ln>
        </p:spPr>
      </p:sp>
      <p:sp>
        <p:nvSpPr>
          <p:cNvPr id="176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391D-A302-4F83-90A5-EC9BBF25C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DB35A-4498-422C-B6D6-BDDAA6E4C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F455C-CA3D-4A65-8718-B5F896501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C8067A9-987B-4A1B-935D-98B30C7FE7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B054C6C-B483-4344-80D7-D3DE92E9E4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12FA5673-A8F8-449B-95D6-97593EEDB0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81F13DD-C4C8-482D-8CE8-913C6C9010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B661785-369C-4532-8C35-720634A306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78B9790-CEF8-4E25-9E58-D07CAF77D9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80C4BFE-B514-457C-8A1C-B4002F3246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2C48FF2E-2EA7-45F9-9262-D82D06FC17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2E4F4073-A773-445F-8B3A-53CBA9CD74A9}"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0326711-A1F0-4FEC-AF05-6574B2B06391}"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68606-3BDF-4165-8A44-44E106F9A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90C4096F-9DB3-4DC7-9116-D902ADF6BAA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40E60C58-0119-48A1-BF42-BEF56AC2A86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07DABBC3-DC7D-4DA1-829A-8CD75D716DC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1DBDBA69-9FC4-4FBB-B543-CD4A7C286DF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4A3C1EC1-DBD1-4B3E-BB32-AA6CCACDCCD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9E7FF8B9-1A45-420B-9D7D-D70234A93C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EE0C8B5C-A169-49BC-BB3C-F5BD5A1C16C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33A108D2-F179-4271-AFD4-AABBB427FEC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2B751FF4-0E43-497E-9F41-D19F3825293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BAD26541-4965-4D91-A5B3-B211231A719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632F6-5A7D-4AF8-8CAB-D26DBAFFA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F852BFF1-6CF0-4D93-AD41-4E529934354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5748136-72F8-474E-8404-2D7BFC4CAB6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3CCEBAD-F523-4005-B47A-B52040EAED1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AF71A0E-C59A-40C0-98FC-3A83B10D853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A5FE886-45F8-4053-8F0E-FE7BB5954D5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B578671-AC41-4331-B972-360C66A0A35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EEFC337-E967-4EC2-8843-33E9C61B729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EA522DF-FC87-4E07-A761-EBD27696DEF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B4EB397-13FF-436B-8F1A-4DBD904B76C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4ACF688-A528-4B18-904E-87FB0A4B6CC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C66D8-6160-4818-81A5-640F5752C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E7638AF-0583-4B6D-9B80-7C973C7F124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EFB20F8-8472-4B63-85C1-1A2F57BCE9D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08492A2-3F2E-4014-B96D-306E728F9DF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E6EC294-F682-4F1C-920D-965A9AE807F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B16D6C6-9CAE-416B-8644-ACC8603790D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8D2E601-B808-47A0-8094-6AE64AF5855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BBE6508-946E-4412-ADDB-DF37BBB58D2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672BB18-7DC0-4430-A693-B9D18B8E055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27C6815-20B3-47ED-9011-675F0D5A3B5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B3D302B-1C2C-46AD-AD4A-985880DF710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02EEF-EAC4-4694-867D-3EA13C37D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CE134D1-DA5B-48D1-A47E-63A317D69A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B7C7621-6ABE-44A1-8DA6-2F014EEBA5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CDA9918-138F-4FF4-8BCE-537E72B5036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4D29CF3-63F5-4BB4-BDE9-CDBB7008F30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D412532-2D22-4147-91E2-37A0F67ADE9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5535138-71F1-4F25-8E51-63CF48F8AF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E158059-CA41-4BE7-B54A-31F8527022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00DF2A2-CC3D-4783-924C-EBDD717E67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4316314-924A-4DDB-9A7C-4D076A8617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325AC69-3B74-461B-A96E-F32EC7DDC6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002F6-63CD-43A9-977C-1289A5B93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59C4B2B-4020-468A-BDE5-53CFC9545F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E31C52F-299B-477B-85F5-47FEFFCFF3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9764FC1-BCC6-42DE-98EB-CB8DA94308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80CDD51-DBBB-40E3-A439-60C355B108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12BC5D7-AD0A-4823-855B-842F5EE23E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D710F2B-6DBF-4471-90E2-F59E0856B9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D4346E4-BA5D-405F-ACF2-9E464F42A8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2473385-49FA-4BCA-8E35-2A9A183BBE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396CFAB-0754-498C-9CA1-1D632C9206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4B9FC2A-A379-45B5-B9C0-F16B5E6736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43AFB-6F67-445F-BBBA-FBE50A275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690FD0E-331E-438B-AFB5-2AEFB48DA4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3A52F01-CC3E-415C-BE94-5673830610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237A7DF-FFF9-499C-94FE-748588B57E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BFE1DA4-1F03-4B19-83F7-5AE039F094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5DAFAB5-EB1D-4DB2-B5BA-572D485BFB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2FCB774-BCE5-4B90-8690-0321D13152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954602E-0E55-4097-B7B0-B72AF86162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E150525-6EF8-4C8D-8F5F-6E23F6554B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E8AA54F-5FF7-4D75-B179-327F489B1C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15285AE-EF01-453F-B30E-056E6BDAD1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81D40-C846-4633-8D54-EE053B7A4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2E413B7-1B90-44B8-8EAC-811DF0993C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C41BA46-B565-4197-847B-0957F3EA55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B18DE0C-674F-4119-B39E-CE7FB7926F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67F33B8-E9F3-4D67-BCC6-BE0C3B1896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2A3461C-66D1-4278-BCD1-6AF9743CDA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862F255-D152-4623-973D-EB064A7FB1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E2B1160-D5F4-45E4-AADD-637A11C8F4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A85368C-B429-41F0-AE6C-1040541B9E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A445166-7F63-450F-A6D6-69D8F17C2A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F75308F-AE6E-44E8-8FC9-5E4EC38648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45CF0-A556-45E4-8C74-C5578A8DB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6C7CA3C-A983-4C17-B288-8EB57FF2B6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D450AC3-E455-42D0-ACBB-DF59661F21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2BFDFC3-3CBA-441C-8719-E23FE3756D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DF53CAF-44EE-4D29-B25C-DB976D711F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A9BC1B3-1390-4CFE-9BB0-B8CC3C3F1D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C9345CF-62F6-407F-AD2E-3BE7219F20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EE538C4-5AE6-441C-AB29-7448DB2D8C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98C1A96-3698-4E96-B87E-EDA4B35697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6B88E77-DBAA-4C82-85E5-A2DFA6C4FB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92113E4-03BB-4498-BF91-BB07535404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77A82-94A6-405A-A49E-E7380B79A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DCD0789-8A94-42AB-8A88-7176681441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16FA4559-4A19-4B9A-8B73-31FFF1538E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7AA81F6-5371-40E2-9CDF-D9618AB186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E399B646-B8F2-4EAF-AA11-FA633D4259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34993C4-E3EC-4E6B-8E7C-E1FDEFCA8B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3205D65-6E7B-4070-8101-FC7E2E793B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4F8CF76-E001-497D-8061-EE781FE687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9268235-D301-496B-A929-1F4894554C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CADD3BB-DC99-4449-A094-419FCD44F5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F74BF8E-DC26-437D-937D-6F1DFFDEC1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9D974-2DE3-4468-A7F3-28C448A6E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B4E75-D4DD-4FB7-8ABA-B3238DDD8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C562DF0-BE18-4EE6-BACF-46B9F4311F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1D32C19-988C-411F-929B-3F39A8A2FC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C488D46-76F8-44DD-93FD-4AE8AA8F4D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0C384BCA-CDF1-4CF3-B166-97F7AB532C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825189EA-16D1-400E-9903-878155C4F4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27D64021-6346-4104-A799-5BB8C465EB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2C0B2BA-39CA-4D1F-A60D-3DC8456C8E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2162D84-CC9F-4B9A-9051-019AE6D769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FF8391A-89A3-419F-862B-D414CE4454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71414A3-3EA3-46AC-93F1-6649CF9A24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6E759-C07D-4C1C-8575-D596E5988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6C4C862-CC2C-4BB1-B308-EA59EA57A7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D5978C4-1591-481F-95A6-7125F8ADEB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17EDE1D-5C3E-4C43-87D9-E0514F4AE2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6BD7794-AC90-4E19-ACAA-F0FE44C7E6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37DCFA1-9BE8-4DFB-ACAC-DAFCBC80AF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CD91DBFC-5E4A-461E-8912-4D27BCDA4B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0310C81-37B3-44F8-9EBF-5B0BE52209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937A4C93-227C-4090-8ABE-790D3269FC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12C0BBE-5848-4FE9-B9E4-7064B449D2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776368D-C549-4902-B1CF-E99BB8456E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FAA6E-C8FD-46D4-94F6-EAE9AD536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07AF089-4F26-4261-8DC5-4A0B5E9D60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EAFA89E-4908-43DA-B96B-CF1E7B384E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E6EF409-CB55-42FD-855E-2805216EE5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3708121-2E4A-4AB1-85CB-FE4C9D1371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62C719D-A9FF-432E-B689-F9E40B412D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DE47E90-6F9B-4870-AF9D-F6B707AD62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16AC753-2B38-4412-A101-71647B85DA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93E7B3E8-4E8B-4762-803B-672F8022C7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0B0B3A4E-9592-4A3E-8643-0E7C4B9F67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82E8519A-0D49-429C-84A1-ACFDE804912E}"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A824A-475C-4BCA-93D3-BF0BEE60E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C350FD85-53CF-4125-A8E1-069575E23F5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73F6AB9E-241E-4874-9BF2-4296E8EE5EF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9906F7E0-A391-4D16-9F3C-F6AE563CFF2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8743E281-C1DC-4496-9A80-8591735DCB48}"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23F9BEAD-AD07-4880-BD73-F1E483AD620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90B5E5F3-04CF-4889-8752-BA396FEEF17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5E7CBA45-33C6-4392-BBCC-CD404C03DE0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78DCCAD8-BE81-4773-9EB6-49D75A98A29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ED60AA4B-6BFF-4C9B-A428-B4C2BF2DFD7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A37409B7-9B70-454A-815E-6F45E4CE55A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A8BD4-FA93-4BDA-B4D9-C84A476B3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777BBAEA-04BB-4028-8837-666E512A2F90}"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93866A64-9A24-4144-A79E-99C9D59CF87D}"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33B8B2E2-084F-43B0-B71E-0AF0C9DF124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C8FFBF8F-0EBC-4BE1-8985-82CB37FE766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3ACCC47B-1F8E-4D21-8ED0-C9781AEF778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F7F64DBD-0F4E-4000-87BC-2A7A392546C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3C03878B-7F7B-40D7-B4AA-288F1518146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7F505C4A-F8D7-422C-B1CD-948F940EF47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DDDE1054-9884-4600-82D9-ED8565ACC3F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2D04FACF-897A-41FE-AA00-29F876AD2B3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9D489D-E92F-4B29-A92A-3E56AB7E88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EC50D38A-EEE0-4911-914D-67E512D898C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00F0249C-AAC1-458C-BCD0-DF88C23F855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20C25553-FE26-461E-A2C6-6905F78FC204}"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D7223F72-1AA2-46F4-9384-B22826703180}"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0E82AE0-4163-447B-9F07-3257253402A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233F34A-7894-4AF8-813B-E23447DF7B4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34383898-8069-4608-8417-D9D9475A10A8}"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D14576FD-7C4B-4A64-BC28-D9365F926EF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6F0A1C9F-24E6-45DD-B89F-562AC9C6BC2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5C18BA1-6BFE-44E8-9686-03B141AC514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D0B58-1EAD-49BC-8BF8-1AA21557B4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6C77B1C-B8E6-459C-BC3E-90AAF291085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D5487F0-24AB-4271-AB0F-275A0D7DB28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3D4CE27-4720-40FF-8C8F-F9A0D4377EA3}"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DD5DDE6A-1873-46CF-B9A2-13D0FFF7A703}"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2A5C24B7-111C-41C2-B016-5CA799ADD9C5}"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141A90FA-CFBD-42DE-87DD-DB4590637D09}"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73E2310B-A605-4E46-BE4C-FCB4404CAEC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E86D5FD1-46DB-4AFB-9232-31F78019A36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7279A435-A4AB-446A-B308-CF5CD00BD08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953DCBE6-18B4-4F67-9BDC-D45C0AF2383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12D07-E9AE-4EB6-9622-D6521A2480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4FBA7FCC-A9AB-4511-BEC3-3EC255042C9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495197A-99AC-45B8-9D96-584D810079C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E31D528A-F2EB-47CF-B05B-670165C6B2B7}"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99FA181-5955-4CB3-8ECD-450A4DE67D3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618EE27F-FA57-46F1-86B3-55F087B241A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7E2D12FB-08D7-427A-AB2E-1EABC4FC742B}"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7333B5B6-9EC4-4B5C-94D0-9C9434BAF6EA}"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4FCA0816-8645-4EE8-80F0-04E3BC5E1EC1}"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0FDC9CC2-43CA-4AB8-A042-7F2401CD1C94}"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2087C80A-8656-42E3-8670-1881A072A8B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B741A4-722D-4D5F-987D-CA05C944DE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4A946A10-D78A-494F-BA8C-5014696A7C53}"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9923073-8917-4968-808D-CC7AE08830FA}"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9A865E2-A710-4630-9B7E-211007C1B9E1}"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94BDB59-7987-4EF3-8479-56CF6934EA6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537B612-BA57-47DB-9A5C-6BB503623A20}"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F9148F1-C8A1-4CB1-8D19-EFDA3093868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53C40E8C-36DB-405E-80F7-2EB60DEA0CCE}"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F208327A-9B6C-4185-B0BD-01852A76AAB4}"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524F85C2-731E-4CF1-8174-9837D6AB33D9}"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BEAC06C0-C406-42AF-8B00-98F37EB117D5}"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BF5D78-9B2F-4C85-9753-1F88D5C3E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22E7BB8B-DD1B-4882-8AF5-8E2092BB2D5C}"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0930E502-935D-4B51-99BC-E487A7C92E99}"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37771DBA-00DD-4354-978E-AA38353F9F8C}"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00B48C3A-0BCD-49BE-8B7A-AB826DB380A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B0AE5F2-B0C7-4D23-8307-E6D517E30E38}"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CC1684E-B05A-40B9-9E40-093E3889DA6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23B0445-D0E1-4297-B9B0-5C156B6F862E}"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5C309C0-4070-401E-AA4B-A94C7DF89ECD}"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A029829F-C1EA-4BB8-BE8D-433E96AB80D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AB7D5435-1684-46CF-BE3C-8133FAFB81AE}"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6CA24-A5BB-4767-97A8-9FC1A2F2E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E6248-687F-44E6-B0A5-D7126565E9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25992C7E-406C-4967-ACA9-D4624238093C}"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1705944B-FEA7-4CEA-AF68-219C563002DE}"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F40AC931-FD24-4445-9F8A-29CC22AEFD54}"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F68053DA-266E-4DD6-93CE-6A6B038641E3}"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4F553F05-B927-41DD-BFB2-8B8FFF032775}"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A8C1D274-4582-4AC0-9F0D-1C3D811E9C34}"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86AD20F4-23E2-4FFB-92A8-02FF3A1A0853}"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6278C604-9BC2-4E95-B98F-32A792864E71}"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3213EBB6-0AFE-4A46-88B2-B81592EE34FA}"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DD00BFD-61EB-408D-B642-4DB69AFD7E0C}"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05764-5E50-46DB-B49B-1FA21B040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F841CC35-FAF8-4ADC-A5FE-850ED5D9A266}"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928D15EA-CD04-4A9A-AC29-7EEB8892CE3D}"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7D5E61A6-B495-4CA0-A3E3-63F88AD9D14C}"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C3717A8D-CCEF-4956-9A85-8D373DD03B18}"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7E12453F-7C4C-4E01-AF31-C8FBBAB1674B}"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941551CC-DA85-4152-B0A7-E90ED0A9FAEC}"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D7CCFB84-B71F-4C90-B8B2-68C299B75761}"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E2F17CAB-7D98-4E87-B0BE-BB3F9C10A0A6}"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CC2C1812-6129-4A50-9572-DC5C1DD84314}"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1AB3A697-7061-487E-AB17-F98CDCFBF261}"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D9F07-2E23-49D5-B622-5298261EC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1982E9CA-1A60-408B-8EBF-5C7F88174BE7}"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2C10BBC5-1489-45AA-81E0-0F34DD95FFDA}"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4380737E-A137-498F-81BC-FD8376294152}"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E2E35E78-FC18-44AA-B149-3AF795101A87}"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1B3F25B7-8485-48FE-BBA0-8DDCB5515832}"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EF692FF7-6BF8-4D05-BD82-B4297FCB0419}"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94F815C5-DE85-4D24-B498-0959D593BDBF}"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6B5221EA-DF40-432B-B8C5-9C5BB05CFCAA}"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45A3B734-0A0C-4022-AF45-C951BA6164FB}"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11E243AF-B89D-4E71-B873-83100255BCCC}"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42F6D-1B68-4A4E-A4DD-195206586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58C32978-8385-4015-9B88-25E479F794E1}"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84B22D8E-2DED-4F2E-80CC-E1F01A98F95E}"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61D808C0-951F-4524-8865-B94B56757044}"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F6C93FBB-A2F0-4652-AEF8-D4ACC12DDCFE}"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42856A0C-E238-4CF5-86DF-22E761970D7B}"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E3529F5E-39C5-4553-B2DC-1DA700CED985}"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CF3E01F3-5B5A-4BAB-85A2-C229E186C783}"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F854F025-83FD-42DA-9D98-6293EBAA05F9}"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80E770EB-4BD7-47C2-B92E-F99CE608FCBF}"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9209CB0F-EBB8-407E-B16B-E05F5EE72AEA}"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62235-5C79-4DEC-91F1-8F8E7BEAC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8838BD8B-CCB2-4BB5-8C42-5137A0DA8DEB}"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8D7078C5-2933-4945-BCDF-B290D561DA3B}"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D00AC16C-4008-4317-AA7F-509C110BD4D2}"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0C7C0C48-530A-41EA-B9DC-453E155DE98E}"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846F0959-1534-4F74-806C-9E5AE9A4DD6B}"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C33DE7F8-609E-45A6-9631-DFCA56F49842}"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817418AC-BC63-4A44-8930-3EC92062DCD7}"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57D2FD93-56DC-4F01-BE28-7BC3AE57D3BB}"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1AD01B38-08DA-4411-AACE-E088AFC88290}"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EA570480-C0C7-48A6-801F-47E7880449E8}"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E817A1-3A0F-4C37-B90F-F911C7C74A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97645D14-F249-46C1-804D-BCAADD5E495A}"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E160D8FF-1869-46C4-8E5F-8E674425A96F}"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F084A45F-4E8F-4293-9586-AC5EFBBCBEF6}"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87EC4C98-3441-4ED3-AC42-04994AAF8BE5}"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53B1EFE3-7042-4107-968E-AD508F3C8478}"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8EC8AEC2-5E3E-4BD9-9336-B03C4171EE3A}"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538E6381-9D74-4A86-91C8-96C7AA2ABF6F}"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A6504C13-9717-4219-866A-1F3CBABB1231}"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91F825AE-CBC3-4ED9-AD57-FF3156DA6166}"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A2C2C63C-D9B5-43CF-A1D4-0B05220841CC}"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5B5710-E1CD-4FAE-8BDD-4CBA6AC9BF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3F3D4E55-0233-46A8-BCB9-F168FA19087C}"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F51DC9F7-184A-484F-8BEF-708D0E98687C}"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B6089C34-A06E-498E-BD83-392305925DB5}"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634A0C2A-2A38-4526-9CF3-CA5D6E483850}"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25CE7994-E041-43E8-9038-E98BFA5E138A}"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4E2FD936-524F-4946-A4D0-339705C66618}"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1A3B9EA5-7211-4DFE-A368-B11330A34151}"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AA2D28EB-3243-4EEC-B290-2729AEF8AC24}"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0E8FF72C-074E-4331-8DA6-B6B39452A40B}"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33E2A189-F2EA-4AC3-A2A9-A23F84560028}"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E10BC0-B30E-4024-8DE6-1DFBE28081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F72E5D56-5469-4907-8167-DB3E0D25B326}"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AE9EBFCA-F8A0-4CE8-9156-BE1CEC068CB5}"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E07793D2-9162-4C16-8787-572B28DC776B}"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04C4148D-95BB-4B92-A330-6A77D7D58D1A}"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09F644C0-1C75-44C0-8D50-7842F7313734}"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DF6AE40A-E918-4A5C-B421-58A16CBCA95D}"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AADC2DE3-B6B6-4E31-BD6C-3E9D34D122F7}"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46239A3A-D4F8-4A75-919D-E2D1A2CA0145}"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5E37774C-E548-4AE3-890E-E262D91EB1F0}"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20697048-3278-4202-B089-E30B4DE2AC36}"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06E88D-4BEC-4C10-85DE-9AACE7D514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31A60F48-BA14-460E-A412-563BCE5A4FAE}"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0CFC1260-15DE-4AC3-A045-B393A2867329}"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41507809-089B-48A3-B96C-0399FABDEC91}"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3F4642AE-30AA-4AA5-83C5-78355D852A7F}"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F0771C15-3E03-4C0D-BE72-E26C0B68844F}"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1F8C6B8A-BB6D-4CE3-BED5-F5EFD2B85B9A}"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A9B68F52-3CE8-4A69-B997-997035187640}"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B3AA2A38-86AA-4C4C-BA24-266DB2C2749F}"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15A7CDBA-5F8C-467D-8775-21E918949C69}"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BBFF24DE-9E53-4FA0-B7E4-514950E879F9}"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69E446-6F27-4FF5-BC7F-65D9FD8B6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FA21E811-5A66-4160-B19D-8A6818D8ED35}"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B2D3E5C8-243B-457E-BB24-290C9F129A68}"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D747F246-DCB1-4D30-808F-06EC5BCED71C}"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5B1E3AF0-A014-4E8F-BCC2-34E28D01E622}"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F04EFADD-B562-4F18-B067-9C695ECB654F}"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61362E0B-FFC7-4F5B-A01D-2811D85D3E4B}"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A755B346-3236-4FA3-8C73-BC291A600CA1}"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4ED4A08A-D5FD-44E4-831B-FBA6AD62DDC8}"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8EC55BDD-D144-4B3D-B5A8-BEA03C9D06F6}"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76E51FF8-1104-4319-AF2B-D35C3DB21CB7}"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79165-8800-4C03-A7B1-59EE9A5E6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7603B-4E0D-49EC-AA17-F96D43E6A6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974A572A-8713-493C-8E26-3001192F9799}"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42B504E5-8158-4159-BABB-9463E8EFA65F}"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BE7B7865-8FA9-48FF-B3C7-5E0969C8E78C}"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FFE020F8-7153-4B9B-BCF7-3A3A62733BAE}"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61D6DBE3-E90B-4269-96D4-E463176E21D1}"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E52D06FC-C1A5-42E0-AC6E-1FBF5552AE1D}"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333AD04A-EFB0-4C87-879E-112D167DCAA5}"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59803556-E4AF-40C1-B015-3F77EA417A37}"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BCE2C33C-0329-4061-B981-96537B0F30FF}"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B7A252F9-34C9-4E36-A587-6B9E092E0434}"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161BAF-8DBD-488C-AAA0-77FA33C619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55B94D80-91D6-4A01-A0A0-BF9442C6F34D}"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23688BC4-0803-4EDE-AB9A-E6C8A2BECFF8}"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3C935DCC-B92F-4BA1-8F51-E4277A71675A}"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991FA0D2-731E-4099-98C5-D79BA3F34C24}"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5A58A02C-019F-4B5D-8F41-9ED4DEC5D601}"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C35BBA88-6F20-4F38-B7EA-7712F50F61CC}"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E75ACE08-3372-4DBC-BE6E-BACBAA869EE6}"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26719433-B70F-4550-8006-367EB8E691E7}"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88BAFDBE-296E-45CD-A882-8120299569D8}"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89BF3816-539A-42DB-BB0A-8154EB1A001A}"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77BC1-80EC-499A-BECE-6ACA6C3F09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ECC88614-3368-4652-8264-2F565D4039EA}"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55C8AFF9-8E6B-4C17-A34B-A3B784F033E5}"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08610FEE-9E8D-46C5-9533-FE8117F031D5}"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4F89A0F6-7B3D-472C-AFBF-96E4D1B65942}"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4091B55B-0F63-4EF7-BC3E-47983BE3E662}"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9C6A20B3-3BBA-4FEF-BC5D-0F02D7F59E86}"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EF457849-6990-4E68-9C99-BAAFACDBD554}"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07E78FC9-656E-466E-B07B-D88B7BDCB53A}"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CF6E00E6-48C1-4616-8B8D-8CC0ACC157DD}"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C870CBAF-1AF1-47F2-A1C4-FE6ABF8C27C2}"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7E00B-3C65-44FF-916A-EAA67CABC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DA70B3F4-574F-4829-A6F1-A07CACB55377}"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E2738608-CF82-4636-AA23-1F2B0B854D8B}"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D49F98E6-929E-4DAD-8F78-B65BFE966AB0}"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45786DA3-D80E-4BCE-BB91-4E4168523B26}"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E03BB57B-CB37-4F8F-87C6-FFEDE0EF9F3E}"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1863F0EC-AD42-4132-9749-4E61BAC39BCA}"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AAA8B697-CB6E-4126-BE4B-FFE229B28353}"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FA71DC65-99B4-4F7B-90EA-DA06CA7D7754}"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9A7D516E-DF52-489F-AC04-EC637B8AC42D}"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0025C36B-E163-4FA8-A4CB-3707D0FCD844}"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51C17-A21C-42E0-B695-8290FF909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394F6FC7-6787-487B-AC7B-EC058384E714}"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4AE59093-C0C9-4D1D-91BA-25CB956F430C}"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F9176CB3-21EF-48B2-AE6C-209B1C45C0B2}"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66478DC7-4239-4733-A564-61BC33AF53A7}"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23AB8747-0741-40D1-800E-6C8646381C85}"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00D2DA54-C8F6-4FB2-BA76-FC4F5B93C688}"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52301573-C133-4927-AE0C-A6EFD9C868B3}"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BCA88039-A9C9-47AF-87A3-D263591C16ED}"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0D0C54D3-0C8C-448F-97F8-BF10D3532554}"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07150167-C2EE-4217-A473-A2A88072C33B}"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71E6B-97B3-4FDE-9C45-76633801C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9A707B29-F44E-4F23-AEA4-D38DBE356C9C}"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63567847-73A9-48A8-A026-C9F2ED57BE07}"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91FB5AF8-037C-4EE1-8704-5D8A1D66518C}"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60126D68-0E29-4C0F-8228-3E5F8EFF523D}"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1ADC687B-0D71-4A00-B8FB-48AF7D267344}"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290271F8-6DD0-4B05-8CC2-5B3A8A497052}"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7072A962-CC65-4184-AAED-670DECB731CF}"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4966B4C9-15D5-4B9B-A239-FF870F7E4645}"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52152129-E006-49F7-8037-A75131820C7D}"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5401CAC2-4E10-42BB-830E-36CC32070B7F}"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343314-89B2-46FF-A3AA-54BC8DA0DC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33EDB03B-8F38-4775-A6D3-443D3468BA1E}"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319EE0B4-0776-4181-9A58-C0B3558FE6E4}"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898A638C-8113-4D97-8813-87E040522DAB}"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A4BC5DD1-B94D-4F34-93E9-4E38F759FF57}"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F3B0BAE2-6D78-462B-8E14-06B13AA0D247}"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9BF673B9-77A7-474A-B95E-1A2BA0D4C23D}"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61463013-EFCA-43EA-B4D4-7D08733B6807}"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8A4AF80F-8685-48E2-882A-B48E198CA188}"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082F74D1-EBB5-4D9B-8D15-48229BF9AF24}"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D5ADCE6C-95AD-4AFD-9FF1-CB94AB449854}"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86B1C9-154A-4D2B-A61A-FD8954F5FB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C6AE672C-EBEF-46BE-A517-A1A6ACDCB764}"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9437B51D-68C8-4D59-8C46-97B22131C862}"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70ACF7DB-E055-4E35-ABB9-CAF7F59B7EA7}"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93D54E80-B153-4548-A3BC-205E54B186DE}"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E71E29CA-B023-48CD-8323-6527EC2DCB9F}"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FA85D1D4-C0C7-4B1A-AE30-EE6D18479E07}"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D28E3931-668F-4F5C-B35C-7290D408EC17}"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16379232-B39C-4161-9323-391B6898FE4E}"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276D4C28-CF50-47ED-8D43-80C87418ECE8}"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EF0F6879-5A35-4725-BA32-128A80BD0D14}"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288525-0681-4599-BCBE-58975E6094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66DACE6C-9CB2-4413-A71A-5F76E800F605}"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9AA13-EB1D-4AC8-9BCB-24953E6F5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8A9FB-E349-45A2-8E78-D977B8287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68E96-DC30-48D0-8891-393B4A1AD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D2ADA0-E150-4453-86CA-DF09234F4E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EA33B-BD06-46FA-B4E9-18E970B348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0243E9-8242-4778-AD78-9D05D7BC9B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5F891-020D-4D9C-8609-B6D1D09923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3E48E9-5ADB-4D87-A949-12C6632B56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4840C-B445-4FEE-A940-C528C3A03D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0B754-BB7A-4449-8D33-0DDB99F366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F6DE-13E7-40F3-97D0-2D902E0DD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49991-BBCE-4C87-9096-E32FCE02FB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5E0F1-FFD9-4D54-9513-011DB20549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C58446-21FB-4FCB-B311-2D3D73F050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9E599F-2DAB-4D22-AAC3-B9FEE446A0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24538E-9202-44F1-A6BA-203CED5359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480CAE-053F-4212-B244-9E61D480BE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E701C3-8869-40CF-B648-4B414DF5A6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69B60C-3F9E-49DC-87DE-95C0628544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0F05E3-F5FF-41FA-9185-298882E867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C36C4D-6DC2-40AF-8461-B1CCA41DA1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EE1A-FCE9-4BF2-8B12-1A1F7538E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45CAA0-AFE4-4AFF-9309-B9DC8A368B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BE45E6-F948-4B2F-92BE-DBD9E7FDA8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B5FB59-9BAF-4826-B6C9-E855CC7FEE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3AB0C9-893C-45D9-82FD-0B6E3DDADA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D80EFF-E435-4A60-B9EC-2C2991A663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E2319E-83F3-4BDE-9D12-C011BABB17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E9F67B-4A2A-4783-BC89-B9DFDB2203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3DB49A7-497E-4B5B-BEA2-EFAF3A576A6B}"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279F8FD-4AE9-445D-B89A-BA602E5F5F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26F080F-8ED6-4E12-9296-6C4D7E58BC1E}"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20A4-CE0D-49A4-B946-06BB442114BA}"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A432-ED86-40AE-8A31-792C246A68C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2D4F-7D21-4E1B-8C9D-B60AF08302D0}"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D8CC-4A78-4676-8858-F349BC2DAC9E}"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8588-6F95-4CE6-BB98-04BCDDBE293A}"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5782-1D03-4B47-B176-6DA854F475EB}"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C639-5CBD-418D-89C0-19FEB171003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1A88-6AFD-4719-8B84-B54F40C6160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2A79-C282-4D9A-B2B6-4DD154DCB2C5}"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D893-A47F-4EEE-BEEE-692129956E60}"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6A26-411B-488B-AD5D-CBC5C9882CDA}"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CE76-FE11-4382-9AFD-931C84EE4BF5}"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3C5E-16C2-4548-B3CB-161DA871C4C2}"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46F9-E3F9-40D2-B8AC-F76A7DF8B30C}"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6DEF-D821-4F59-B577-179072BEBDE6}"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1630-7B0B-47C1-B20F-540F939E70AF}"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E57A3-C358-43EA-9AA2-079FB1B1BCB5}"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3178-0A1E-481C-994C-21E99D2A4973}"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AF30-6485-4AC1-B4C0-003AEC840EFA}"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15DE-F9C1-44CF-87C9-625D5681445F}"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9EEC-6FFC-4D98-9644-551B34053054}"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893A-BD66-4F6F-9F6B-A39A9DA17B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4D3C-903B-4E87-BA0B-F0D759401D70}"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81A7-7752-4AE9-8BC4-580D7F99C4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F622-D27B-4AB9-A1AB-97941819E0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BB91-B571-48B8-9932-29BD7AA482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F8EC-C57F-45D4-B531-A67220549A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C88F-D8CC-4961-A43B-EDBD20F563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12F8-7D1E-4A28-9C74-3903371162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294B-2776-4345-BAE2-E2B83CC541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06EB-A1D8-476D-AE6D-EE45F91516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1BC0-0B75-4BBD-A203-9CD16246BCF7}"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F8EA-F97B-4F1F-8EA6-49EE2587A1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001F-4747-46D1-A204-BAB2D61314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DF27-BC92-4BFF-A577-56E11DF31D6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4812-5E2D-44F4-AF55-7710995261F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2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hyperlink" Target="https://mxweb3.media-x.com/home/ncval/demo/" TargetMode="External"/><Relationship Id="rId3" Type="http://schemas.openxmlformats.org/officeDocument/2006/relationships/slideLayout" Target="../slideLayouts/slideLayout3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insidemathematics.org/index.php/tools-for-teachers" TargetMode="External"/><Relationship Id="rId2" Type="http://schemas.openxmlformats.org/officeDocument/2006/relationships/hyperlink" Target="http://www.insidemathematics.org/index.php/tools-for-teachers" TargetMode="External"/><Relationship Id="rId3" Type="http://schemas.openxmlformats.org/officeDocument/2006/relationships/hyperlink" Target="http://www.insidemathematics.org/index.php/tools-for-teachers" TargetMode="External"/><Relationship Id="rId4" Type="http://schemas.openxmlformats.org/officeDocument/2006/relationships/hyperlink" Target="http://www.insidemathematics.org/index.php/tools-for-teachers" TargetMode="External"/><Relationship Id="rId5" Type="http://schemas.openxmlformats.org/officeDocument/2006/relationships/slideLayout" Target="../slideLayouts/slideLayout36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42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6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6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42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2133360"/>
            <a:ext cx="7772400" cy="1469880"/>
          </a:xfrm>
          <a:prstGeom prst="rect">
            <a:avLst/>
          </a:prstGeom>
          <a:noFill/>
          <a:ln cap="rnd" w="34920">
            <a:solidFill>
              <a:srgbClr val="000000"/>
            </a:solidFill>
            <a:beve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ffectively Evaluating North Carolina Teachers</a:t>
            </a:r>
            <a:endParaRPr b="0" lang="en-US" sz="4400" spc="-1" strike="noStrike">
              <a:solidFill>
                <a:srgbClr val="000000"/>
              </a:solidFill>
              <a:latin typeface="Calibri"/>
            </a:endParaRPr>
          </a:p>
        </p:txBody>
      </p:sp>
      <p:sp>
        <p:nvSpPr>
          <p:cNvPr id="1613"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zabeth City-Pasquotank County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vember 7, 2011</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8EAB-14C2-4C26-A303-39312D6B28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Sixth Standard for Teachers</a:t>
            </a:r>
            <a:endParaRPr b="0" lang="en-US" sz="4400" spc="-1" strike="noStrike">
              <a:solidFill>
                <a:srgbClr val="000000"/>
              </a:solidFill>
              <a:latin typeface="Calibri"/>
            </a:endParaRPr>
          </a:p>
        </p:txBody>
      </p:sp>
      <p:sp>
        <p:nvSpPr>
          <p:cNvPr id="1643" name=""/>
          <p:cNvSpPr txBox="1"/>
          <p:nvPr/>
        </p:nvSpPr>
        <p:spPr>
          <a:xfrm>
            <a:off x="457200" y="1600200"/>
            <a:ext cx="8229600" cy="4191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eachers contribute to the academic success of students</a:t>
            </a:r>
            <a:endParaRPr b="0" lang="en-US" sz="40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work of the teachers results in acceptable, measurable progress for students based on established performance expectations using appropriate data to demonstrate growth.</a:t>
            </a:r>
            <a:endParaRPr b="0" lang="en-US" sz="3600" spc="-1" strike="noStrike">
              <a:solidFill>
                <a:srgbClr val="000000"/>
              </a:solidFill>
              <a:latin typeface="Calibri"/>
            </a:endParaRPr>
          </a:p>
        </p:txBody>
      </p:sp>
      <p:sp>
        <p:nvSpPr>
          <p:cNvPr id="16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74DD-9BA5-4BCE-A8A6-FFC2B09A13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Effective Educators</a:t>
            </a:r>
            <a:endParaRPr b="0" lang="en-US" sz="4400" spc="-1" strike="noStrike">
              <a:solidFill>
                <a:srgbClr val="000000"/>
              </a:solidFill>
              <a:latin typeface="Calibri"/>
            </a:endParaRPr>
          </a:p>
        </p:txBody>
      </p:sp>
      <p:pic>
        <p:nvPicPr>
          <p:cNvPr id="1646" name="Content Placeholder 4" descr=""/>
          <p:cNvPicPr/>
          <p:nvPr/>
        </p:nvPicPr>
        <p:blipFill>
          <a:blip r:embed="rId1"/>
          <a:stretch/>
        </p:blipFill>
        <p:spPr>
          <a:xfrm>
            <a:off x="438120" y="1596960"/>
            <a:ext cx="8267760" cy="4535640"/>
          </a:xfrm>
          <a:prstGeom prst="rect">
            <a:avLst/>
          </a:prstGeom>
          <a:ln w="0">
            <a:noFill/>
          </a:ln>
        </p:spPr>
      </p:pic>
      <p:sp>
        <p:nvSpPr>
          <p:cNvPr id="16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84E0-CD62-4237-9772-CA81961746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Highly Effective Educators</a:t>
            </a:r>
            <a:endParaRPr b="0" lang="en-US" sz="4400" spc="-1" strike="noStrike">
              <a:solidFill>
                <a:srgbClr val="000000"/>
              </a:solidFill>
              <a:latin typeface="Calibri"/>
            </a:endParaRPr>
          </a:p>
        </p:txBody>
      </p:sp>
      <p:pic>
        <p:nvPicPr>
          <p:cNvPr id="1649" name="Content Placeholder 4" descr=""/>
          <p:cNvPicPr/>
          <p:nvPr/>
        </p:nvPicPr>
        <p:blipFill>
          <a:blip r:embed="rId1"/>
          <a:stretch/>
        </p:blipFill>
        <p:spPr>
          <a:xfrm>
            <a:off x="438120" y="1596960"/>
            <a:ext cx="8267760" cy="4535640"/>
          </a:xfrm>
          <a:prstGeom prst="rect">
            <a:avLst/>
          </a:prstGeom>
          <a:ln w="0">
            <a:noFill/>
          </a:ln>
        </p:spPr>
      </p:pic>
      <p:sp>
        <p:nvSpPr>
          <p:cNvPr id="1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166F-58BF-4493-B880-0D758ADC17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380520" y="457200"/>
            <a:ext cx="8458200" cy="548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3f75"/>
                </a:solidFill>
                <a:latin typeface="Calibri"/>
              </a:rPr>
              <a:t>developing</a:t>
            </a:r>
            <a:r>
              <a:rPr b="1" lang="en-US" sz="3200" spc="-1" strike="noStrike">
                <a:solidFill>
                  <a:srgbClr val="000000"/>
                </a:solidFill>
                <a:latin typeface="Calibri"/>
              </a:rPr>
              <a:t> </a:t>
            </a:r>
            <a:r>
              <a:rPr b="0" lang="en-US" sz="3200" spc="-1" strike="noStrike">
                <a:solidFill>
                  <a:srgbClr val="000000"/>
                </a:solidFill>
                <a:latin typeface="Calibri"/>
              </a:rPr>
              <a:t>teacher</a:t>
            </a:r>
            <a:r>
              <a:rPr b="0" lang="en-US" sz="3200" spc="-1" strike="noStrike">
                <a:solidFill>
                  <a:srgbClr val="ff0000"/>
                </a:solidFill>
                <a:latin typeface="Calibri"/>
              </a:rPr>
              <a:t> </a:t>
            </a:r>
            <a:r>
              <a:rPr b="1" lang="en-US" sz="3200" spc="-1" strike="noStrike">
                <a:solidFill>
                  <a:srgbClr val="ff0000"/>
                </a:solidFill>
                <a:latin typeface="Calibri"/>
              </a:rPr>
              <a:t>tells</a:t>
            </a:r>
            <a:br>
              <a:rPr sz="3200"/>
            </a:br>
            <a:br>
              <a:rPr sz="3200"/>
            </a:br>
            <a:r>
              <a:rPr b="0" lang="en-US" sz="3200" spc="-1" strike="noStrike">
                <a:solidFill>
                  <a:srgbClr val="000000"/>
                </a:solidFill>
                <a:latin typeface="Calibri"/>
              </a:rPr>
              <a:t>     The </a:t>
            </a:r>
            <a:r>
              <a:rPr b="1" lang="en-US" sz="3200" spc="-1" strike="noStrike">
                <a:solidFill>
                  <a:srgbClr val="003f75"/>
                </a:solidFill>
                <a:latin typeface="Calibri"/>
              </a:rPr>
              <a:t>proficient</a:t>
            </a:r>
            <a:r>
              <a:rPr b="0" lang="en-US" sz="3200" spc="-1" strike="noStrike">
                <a:solidFill>
                  <a:srgbClr val="000000"/>
                </a:solidFill>
                <a:latin typeface="Calibri"/>
              </a:rPr>
              <a:t> teacher </a:t>
            </a:r>
            <a:r>
              <a:rPr b="1" lang="en-US" sz="3200" spc="-1" strike="noStrike">
                <a:solidFill>
                  <a:srgbClr val="ff0000"/>
                </a:solidFill>
                <a:latin typeface="Calibri"/>
              </a:rPr>
              <a:t>explains</a:t>
            </a:r>
            <a:br>
              <a:rPr sz="3200"/>
            </a:b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a:t>
            </a:r>
            <a:r>
              <a:rPr b="1" lang="en-US" sz="3200" spc="-1" strike="noStrike">
                <a:solidFill>
                  <a:srgbClr val="003f75"/>
                </a:solidFill>
                <a:latin typeface="Calibri"/>
              </a:rPr>
              <a:t>accomplished</a:t>
            </a:r>
            <a:r>
              <a:rPr b="0" lang="en-US" sz="3200" spc="-1" strike="noStrike">
                <a:solidFill>
                  <a:srgbClr val="003f75"/>
                </a:solidFill>
                <a:latin typeface="Calibri"/>
              </a:rPr>
              <a:t> </a:t>
            </a:r>
            <a:r>
              <a:rPr b="0" lang="en-US" sz="3200" spc="-1" strike="noStrike">
                <a:solidFill>
                  <a:srgbClr val="000000"/>
                </a:solidFill>
                <a:latin typeface="Calibri"/>
              </a:rPr>
              <a:t>teacher </a:t>
            </a:r>
            <a:r>
              <a:rPr b="1" lang="en-US" sz="3200" spc="-1" strike="noStrike">
                <a:solidFill>
                  <a:srgbClr val="ff0000"/>
                </a:solidFill>
                <a:latin typeface="Calibri"/>
              </a:rPr>
              <a:t>demonstrates</a:t>
            </a:r>
            <a:br>
              <a:rPr sz="3200"/>
            </a:br>
            <a:br>
              <a:rPr sz="3200"/>
            </a:br>
            <a:r>
              <a:rPr b="0" lang="en-US" sz="3200" spc="-1" strike="noStrike">
                <a:solidFill>
                  <a:srgbClr val="000000"/>
                </a:solidFill>
                <a:latin typeface="Calibri"/>
              </a:rPr>
              <a:t>	</a:t>
            </a:r>
            <a:r>
              <a:rPr b="0" lang="en-US" sz="3200" spc="-1" strike="noStrike">
                <a:solidFill>
                  <a:srgbClr val="000000"/>
                </a:solidFill>
                <a:latin typeface="Calibri"/>
              </a:rPr>
              <a:t>     The </a:t>
            </a:r>
            <a:r>
              <a:rPr b="1" lang="en-US" sz="3200" spc="-1" strike="noStrike">
                <a:solidFill>
                  <a:srgbClr val="003f75"/>
                </a:solidFill>
                <a:latin typeface="Calibri"/>
              </a:rPr>
              <a:t>distinguished</a:t>
            </a:r>
            <a:r>
              <a:rPr b="0" lang="en-US" sz="3200" spc="-1" strike="noStrike">
                <a:solidFill>
                  <a:srgbClr val="000000"/>
                </a:solidFill>
                <a:latin typeface="Calibri"/>
              </a:rPr>
              <a:t> teacher</a:t>
            </a:r>
            <a:r>
              <a:rPr b="1" lang="en-US" sz="3200" spc="-1" strike="noStrike">
                <a:solidFill>
                  <a:srgbClr val="ff0000"/>
                </a:solidFill>
                <a:latin typeface="Calibri"/>
              </a:rPr>
              <a:t> inspires</a:t>
            </a:r>
            <a:endParaRPr b="0" lang="en-US" sz="3200" spc="-1" strike="noStrike">
              <a:solidFill>
                <a:srgbClr val="000000"/>
              </a:solidFill>
              <a:latin typeface="Calibri"/>
            </a:endParaRPr>
          </a:p>
        </p:txBody>
      </p:sp>
      <p:sp>
        <p:nvSpPr>
          <p:cNvPr id="16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01EC-8646-4370-9763-4C71153EFC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Slide Number Placeholder 3"/>
          <p:cNvSpPr/>
          <p:nvPr/>
        </p:nvSpPr>
        <p:spPr>
          <a:xfrm>
            <a:off x="6705720" y="6095880"/>
            <a:ext cx="19047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A786-9FF1-46C1-AE29-A6062D4BBCB0}"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54" name="Rectangle 2"/>
          <p:cNvSpPr/>
          <p:nvPr/>
        </p:nvSpPr>
        <p:spPr>
          <a:xfrm>
            <a:off x="4572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Performance Rating Scale</a:t>
            </a:r>
            <a:endParaRPr b="0" lang="en-US" sz="4400" spc="-1" strike="noStrike">
              <a:solidFill>
                <a:srgbClr val="000000"/>
              </a:solidFill>
              <a:latin typeface="Arial"/>
            </a:endParaRPr>
          </a:p>
        </p:txBody>
      </p:sp>
      <p:sp>
        <p:nvSpPr>
          <p:cNvPr id="1655" name="Rectangle 4"/>
          <p:cNvSpPr/>
          <p:nvPr/>
        </p:nvSpPr>
        <p:spPr>
          <a:xfrm>
            <a:off x="9000" y="509904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veloping</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56" name="Oval 5"/>
          <p:cNvSpPr/>
          <p:nvPr/>
        </p:nvSpPr>
        <p:spPr>
          <a:xfrm>
            <a:off x="1981080" y="504504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Oval 6"/>
          <p:cNvSpPr/>
          <p:nvPr/>
        </p:nvSpPr>
        <p:spPr>
          <a:xfrm>
            <a:off x="1981080" y="14079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Oval 7"/>
          <p:cNvSpPr/>
          <p:nvPr/>
        </p:nvSpPr>
        <p:spPr>
          <a:xfrm>
            <a:off x="1981080" y="26067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Oval 8"/>
          <p:cNvSpPr/>
          <p:nvPr/>
        </p:nvSpPr>
        <p:spPr>
          <a:xfrm>
            <a:off x="1981080" y="379872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Rectangle 9"/>
          <p:cNvSpPr/>
          <p:nvPr/>
        </p:nvSpPr>
        <p:spPr>
          <a:xfrm>
            <a:off x="3240" y="388476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ficien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61" name="Rectangle 10"/>
          <p:cNvSpPr/>
          <p:nvPr/>
        </p:nvSpPr>
        <p:spPr>
          <a:xfrm>
            <a:off x="10440" y="267804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compl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62" name="Rectangle 11"/>
          <p:cNvSpPr/>
          <p:nvPr/>
        </p:nvSpPr>
        <p:spPr>
          <a:xfrm>
            <a:off x="10800" y="1463760"/>
            <a:ext cx="203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stingu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63" name="Up Arrow 12"/>
          <p:cNvSpPr/>
          <p:nvPr/>
        </p:nvSpPr>
        <p:spPr>
          <a:xfrm>
            <a:off x="2208240" y="1031760"/>
            <a:ext cx="228600" cy="4572000"/>
          </a:xfrm>
          <a:prstGeom prst="upArrow">
            <a:avLst>
              <a:gd name="adj1" fmla="val 100000"/>
              <a:gd name="adj2" fmla="val 57870"/>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Rectangle 13"/>
          <p:cNvSpPr/>
          <p:nvPr/>
        </p:nvSpPr>
        <p:spPr>
          <a:xfrm>
            <a:off x="2743200" y="48960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d adequate growth during the period of performance, but did not demonstrate competence on standard(s) of performance  </a:t>
            </a:r>
            <a:endParaRPr b="0" lang="en-US" sz="1800" spc="-1" strike="noStrike">
              <a:solidFill>
                <a:srgbClr val="000000"/>
              </a:solidFill>
              <a:latin typeface="Arial"/>
            </a:endParaRPr>
          </a:p>
        </p:txBody>
      </p:sp>
      <p:sp>
        <p:nvSpPr>
          <p:cNvPr id="1665" name="Rectangle 14"/>
          <p:cNvSpPr/>
          <p:nvPr/>
        </p:nvSpPr>
        <p:spPr>
          <a:xfrm>
            <a:off x="2743200" y="37321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d basic competence on standards of performance</a:t>
            </a:r>
            <a:endParaRPr b="0" lang="en-US" sz="1800" spc="-1" strike="noStrike">
              <a:solidFill>
                <a:srgbClr val="000000"/>
              </a:solidFill>
              <a:latin typeface="Arial"/>
            </a:endParaRPr>
          </a:p>
        </p:txBody>
      </p:sp>
      <p:sp>
        <p:nvSpPr>
          <p:cNvPr id="1666" name="Rectangle 15"/>
          <p:cNvSpPr/>
          <p:nvPr/>
        </p:nvSpPr>
        <p:spPr>
          <a:xfrm>
            <a:off x="2743200" y="25732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ceeded basic competence on standards for performance most of the time</a:t>
            </a:r>
            <a:endParaRPr b="0" lang="en-US" sz="1800" spc="-1" strike="noStrike">
              <a:solidFill>
                <a:srgbClr val="000000"/>
              </a:solidFill>
              <a:latin typeface="Arial"/>
            </a:endParaRPr>
          </a:p>
        </p:txBody>
      </p:sp>
      <p:sp>
        <p:nvSpPr>
          <p:cNvPr id="1667" name="Rectangle 16"/>
          <p:cNvSpPr/>
          <p:nvPr/>
        </p:nvSpPr>
        <p:spPr>
          <a:xfrm>
            <a:off x="2666880" y="135396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stently and significantly exceeded basic competence on standards of performance</a:t>
            </a:r>
            <a:endParaRPr b="0" lang="en-US" sz="1800" spc="-1" strike="noStrike">
              <a:solidFill>
                <a:srgbClr val="000000"/>
              </a:solidFill>
              <a:latin typeface="Arial"/>
            </a:endParaRPr>
          </a:p>
        </p:txBody>
      </p:sp>
      <p:sp>
        <p:nvSpPr>
          <p:cNvPr id="1668" name="TextBox 18"/>
          <p:cNvSpPr/>
          <p:nvPr/>
        </p:nvSpPr>
        <p:spPr>
          <a:xfrm>
            <a:off x="7010280" y="1828800"/>
            <a:ext cx="2057400" cy="31114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t Demonstra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d not demonstrate competence on, or adequate growth toward, achieving standard(s) of 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res documentation </a:t>
            </a:r>
            <a:endParaRPr b="0" lang="en-US" sz="1800" spc="-1" strike="noStrike">
              <a:solidFill>
                <a:srgbClr val="000000"/>
              </a:solidFill>
              <a:latin typeface="Arial"/>
            </a:endParaRPr>
          </a:p>
        </p:txBody>
      </p:sp>
      <p:sp>
        <p:nvSpPr>
          <p:cNvPr id="1669" name="TextBox 17"/>
          <p:cNvSpPr/>
          <p:nvPr/>
        </p:nvSpPr>
        <p:spPr>
          <a:xfrm>
            <a:off x="2988000" y="1981080"/>
            <a:ext cx="301068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Knowledge and skills replicated</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Exemplar of performance </a:t>
            </a:r>
            <a:endParaRPr b="0" lang="en-US" sz="1700" spc="-1" strike="noStrike">
              <a:solidFill>
                <a:srgbClr val="000000"/>
              </a:solidFill>
              <a:latin typeface="Arial"/>
            </a:endParaRPr>
          </a:p>
        </p:txBody>
      </p:sp>
      <p:sp>
        <p:nvSpPr>
          <p:cNvPr id="1670" name="TextBox 19"/>
          <p:cNvSpPr/>
          <p:nvPr/>
        </p:nvSpPr>
        <p:spPr>
          <a:xfrm>
            <a:off x="2975400" y="3276720"/>
            <a:ext cx="31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000"/>
                </a:solidFill>
                <a:latin typeface="Calibri"/>
              </a:rPr>
              <a:t>Innovation + High Performance</a:t>
            </a:r>
            <a:endParaRPr b="0" lang="en-US" sz="1800" spc="-1" strike="noStrike">
              <a:solidFill>
                <a:srgbClr val="000000"/>
              </a:solidFill>
              <a:latin typeface="Arial"/>
            </a:endParaRPr>
          </a:p>
        </p:txBody>
      </p:sp>
      <p:sp>
        <p:nvSpPr>
          <p:cNvPr id="1671" name="TextBox 20"/>
          <p:cNvSpPr/>
          <p:nvPr/>
        </p:nvSpPr>
        <p:spPr>
          <a:xfrm>
            <a:off x="3107160" y="6172200"/>
            <a:ext cx="317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Calibri"/>
              </a:rPr>
              <a:t>Skill not mature or unsuccessful</a:t>
            </a:r>
            <a:endParaRPr b="0" lang="en-US" sz="1800" spc="-1" strike="noStrike">
              <a:solidFill>
                <a:srgbClr val="000000"/>
              </a:solidFill>
              <a:latin typeface="Arial"/>
            </a:endParaRPr>
          </a:p>
        </p:txBody>
      </p:sp>
      <p:sp>
        <p:nvSpPr>
          <p:cNvPr id="1672" name="TextBox 21"/>
          <p:cNvSpPr/>
          <p:nvPr/>
        </p:nvSpPr>
        <p:spPr>
          <a:xfrm>
            <a:off x="3081600" y="4419720"/>
            <a:ext cx="358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2d050"/>
                </a:solidFill>
                <a:latin typeface="Calibri"/>
              </a:rPr>
              <a:t>Solid, effective application + success</a:t>
            </a:r>
            <a:endParaRPr b="0" lang="en-US" sz="1800" spc="-1" strike="noStrike">
              <a:solidFill>
                <a:srgbClr val="000000"/>
              </a:solidFill>
              <a:latin typeface="Arial"/>
            </a:endParaRPr>
          </a:p>
        </p:txBody>
      </p:sp>
      <p:sp>
        <p:nvSpPr>
          <p:cNvPr id="1673" name="TextBox 22"/>
          <p:cNvSpPr/>
          <p:nvPr/>
        </p:nvSpPr>
        <p:spPr>
          <a:xfrm>
            <a:off x="6856920" y="51055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libri"/>
              </a:rPr>
              <a:t>Never demonst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71"/>
                                        </p:tgtEl>
                                        <p:attrNameLst>
                                          <p:attrName>style.visibility</p:attrName>
                                        </p:attrNameLst>
                                      </p:cBhvr>
                                      <p:to>
                                        <p:strVal val="visible"/>
                                      </p:to>
                                    </p:set>
                                    <p:anim calcmode="lin" valueType="num">
                                      <p:cBhvr additive="base">
                                        <p:cTn id="45" dur="500" fill="hold"/>
                                        <p:tgtEl>
                                          <p:spTgt spid="1671"/>
                                        </p:tgtEl>
                                        <p:attrNameLst>
                                          <p:attrName>ppt_x</p:attrName>
                                        </p:attrNameLst>
                                      </p:cBhvr>
                                      <p:tavLst>
                                        <p:tav tm="0">
                                          <p:val>
                                            <p:strVal val="#ppt_x"/>
                                          </p:val>
                                        </p:tav>
                                        <p:tav tm="100000">
                                          <p:val>
                                            <p:strVal val="#ppt_x"/>
                                          </p:val>
                                        </p:tav>
                                      </p:tavLst>
                                    </p:anim>
                                    <p:anim calcmode="lin" valueType="num">
                                      <p:cBhvr additive="base">
                                        <p:cTn id="46" dur="500" fill="hold"/>
                                        <p:tgtEl>
                                          <p:spTgt spid="167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72"/>
                                        </p:tgtEl>
                                        <p:attrNameLst>
                                          <p:attrName>style.visibility</p:attrName>
                                        </p:attrNameLst>
                                      </p:cBhvr>
                                      <p:to>
                                        <p:strVal val="visible"/>
                                      </p:to>
                                    </p:set>
                                    <p:anim calcmode="lin" valueType="num">
                                      <p:cBhvr additive="base">
                                        <p:cTn id="51" dur="500" fill="hold"/>
                                        <p:tgtEl>
                                          <p:spTgt spid="1672"/>
                                        </p:tgtEl>
                                        <p:attrNameLst>
                                          <p:attrName>ppt_x</p:attrName>
                                        </p:attrNameLst>
                                      </p:cBhvr>
                                      <p:tavLst>
                                        <p:tav tm="0">
                                          <p:val>
                                            <p:strVal val="#ppt_x"/>
                                          </p:val>
                                        </p:tav>
                                        <p:tav tm="100000">
                                          <p:val>
                                            <p:strVal val="#ppt_x"/>
                                          </p:val>
                                        </p:tav>
                                      </p:tavLst>
                                    </p:anim>
                                    <p:anim calcmode="lin" valueType="num">
                                      <p:cBhvr additive="base">
                                        <p:cTn id="52" dur="500" fill="hold"/>
                                        <p:tgtEl>
                                          <p:spTgt spid="167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70"/>
                                        </p:tgtEl>
                                        <p:attrNameLst>
                                          <p:attrName>style.visibility</p:attrName>
                                        </p:attrNameLst>
                                      </p:cBhvr>
                                      <p:to>
                                        <p:strVal val="visible"/>
                                      </p:to>
                                    </p:set>
                                    <p:anim calcmode="lin" valueType="num">
                                      <p:cBhvr additive="base">
                                        <p:cTn id="57" dur="500" fill="hold"/>
                                        <p:tgtEl>
                                          <p:spTgt spid="1670"/>
                                        </p:tgtEl>
                                        <p:attrNameLst>
                                          <p:attrName>ppt_x</p:attrName>
                                        </p:attrNameLst>
                                      </p:cBhvr>
                                      <p:tavLst>
                                        <p:tav tm="0">
                                          <p:val>
                                            <p:strVal val="#ppt_x"/>
                                          </p:val>
                                        </p:tav>
                                        <p:tav tm="100000">
                                          <p:val>
                                            <p:strVal val="#ppt_x"/>
                                          </p:val>
                                        </p:tav>
                                      </p:tavLst>
                                    </p:anim>
                                    <p:anim calcmode="lin" valueType="num">
                                      <p:cBhvr additive="base">
                                        <p:cTn id="58" dur="500" fill="hold"/>
                                        <p:tgtEl>
                                          <p:spTgt spid="1670"/>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669"/>
                                        </p:tgtEl>
                                        <p:attrNameLst>
                                          <p:attrName>style.visibility</p:attrName>
                                        </p:attrNameLst>
                                      </p:cBhvr>
                                      <p:to>
                                        <p:strVal val="visible"/>
                                      </p:to>
                                    </p:set>
                                    <p:anim calcmode="lin" valueType="num">
                                      <p:cBhvr additive="base">
                                        <p:cTn id="63" dur="500" fill="hold"/>
                                        <p:tgtEl>
                                          <p:spTgt spid="1669"/>
                                        </p:tgtEl>
                                        <p:attrNameLst>
                                          <p:attrName>ppt_x</p:attrName>
                                        </p:attrNameLst>
                                      </p:cBhvr>
                                      <p:tavLst>
                                        <p:tav tm="0">
                                          <p:val>
                                            <p:strVal val="#ppt_x"/>
                                          </p:val>
                                        </p:tav>
                                        <p:tav tm="100000">
                                          <p:val>
                                            <p:strVal val="#ppt_x"/>
                                          </p:val>
                                        </p:tav>
                                      </p:tavLst>
                                    </p:anim>
                                    <p:anim calcmode="lin" valueType="num">
                                      <p:cBhvr additive="base">
                                        <p:cTn id="64" dur="500" fill="hold"/>
                                        <p:tgtEl>
                                          <p:spTgt spid="1669"/>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73"/>
                                        </p:tgtEl>
                                        <p:attrNameLst>
                                          <p:attrName>style.visibility</p:attrName>
                                        </p:attrNameLst>
                                      </p:cBhvr>
                                      <p:to>
                                        <p:strVal val="visible"/>
                                      </p:to>
                                    </p:set>
                                    <p:anim calcmode="lin" valueType="num">
                                      <p:cBhvr additive="base">
                                        <p:cTn id="69" dur="500" fill="hold"/>
                                        <p:tgtEl>
                                          <p:spTgt spid="1673"/>
                                        </p:tgtEl>
                                        <p:attrNameLst>
                                          <p:attrName>ppt_x</p:attrName>
                                        </p:attrNameLst>
                                      </p:cBhvr>
                                      <p:tavLst>
                                        <p:tav tm="0">
                                          <p:val>
                                            <p:strVal val="#ppt_x"/>
                                          </p:val>
                                        </p:tav>
                                        <p:tav tm="100000">
                                          <p:val>
                                            <p:strVal val="#ppt_x"/>
                                          </p:val>
                                        </p:tav>
                                      </p:tavLst>
                                    </p:anim>
                                    <p:anim calcmode="lin" valueType="num">
                                      <p:cBhvr additive="base">
                                        <p:cTn id="70" dur="500" fill="hold"/>
                                        <p:tgtEl>
                                          <p:spTgt spid="16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4" name="Content Placeholder 5" descr=""/>
          <p:cNvPicPr/>
          <p:nvPr/>
        </p:nvPicPr>
        <p:blipFill>
          <a:blip r:embed="rId1"/>
          <a:stretch/>
        </p:blipFill>
        <p:spPr>
          <a:xfrm>
            <a:off x="665280" y="1122480"/>
            <a:ext cx="7826400" cy="4913280"/>
          </a:xfrm>
          <a:prstGeom prst="rect">
            <a:avLst/>
          </a:prstGeom>
          <a:ln w="0">
            <a:noFill/>
          </a:ln>
        </p:spPr>
      </p:pic>
      <p:sp>
        <p:nvSpPr>
          <p:cNvPr id="167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AC2F-5740-45F8-B7DD-9C5D92879DC5}"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76" name="Rectangle 4"/>
          <p:cNvSpPr/>
          <p:nvPr/>
        </p:nvSpPr>
        <p:spPr>
          <a:xfrm>
            <a:off x="457200" y="228600"/>
            <a:ext cx="8458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ea typeface="Times New Roman"/>
              </a:rPr>
              <a:t>New Standards and Evaluation Systems</a:t>
            </a:r>
            <a:endParaRPr b="0" lang="en-US" sz="3800" spc="-1" strike="noStrike">
              <a:solidFill>
                <a:srgbClr val="000000"/>
              </a:solidFill>
              <a:latin typeface="Arial"/>
            </a:endParaRPr>
          </a:p>
        </p:txBody>
      </p:sp>
      <p:sp>
        <p:nvSpPr>
          <p:cNvPr id="1677" name="Oval 6"/>
          <p:cNvSpPr/>
          <p:nvPr/>
        </p:nvSpPr>
        <p:spPr>
          <a:xfrm>
            <a:off x="457200" y="1143000"/>
            <a:ext cx="2057400" cy="10666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Formative, Growth</a:t>
            </a:r>
            <a:endParaRPr b="0" lang="en-US" sz="1800" spc="-1" strike="noStrike">
              <a:solidFill>
                <a:srgbClr val="000000"/>
              </a:solidFill>
              <a:latin typeface="Arial"/>
            </a:endParaRPr>
          </a:p>
        </p:txBody>
      </p:sp>
      <p:sp>
        <p:nvSpPr>
          <p:cNvPr id="1678" name="Oval 7"/>
          <p:cNvSpPr/>
          <p:nvPr/>
        </p:nvSpPr>
        <p:spPr>
          <a:xfrm>
            <a:off x="2514600" y="1219320"/>
            <a:ext cx="1981080" cy="9903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Data-driven</a:t>
            </a:r>
            <a:endParaRPr b="0" lang="en-US" sz="1800" spc="-1" strike="noStrike">
              <a:solidFill>
                <a:srgbClr val="000000"/>
              </a:solidFill>
              <a:latin typeface="Arial"/>
            </a:endParaRPr>
          </a:p>
        </p:txBody>
      </p:sp>
      <p:sp>
        <p:nvSpPr>
          <p:cNvPr id="1679" name="Oval 8"/>
          <p:cNvSpPr/>
          <p:nvPr/>
        </p:nvSpPr>
        <p:spPr>
          <a:xfrm>
            <a:off x="4495680" y="1219320"/>
            <a:ext cx="1981440" cy="914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PD</a:t>
            </a:r>
            <a:endParaRPr b="0" lang="en-US" sz="1800" spc="-1" strike="noStrike">
              <a:solidFill>
                <a:srgbClr val="000000"/>
              </a:solidFill>
              <a:latin typeface="Arial"/>
            </a:endParaRPr>
          </a:p>
        </p:txBody>
      </p:sp>
      <p:sp>
        <p:nvSpPr>
          <p:cNvPr id="1680" name="Oval 9"/>
          <p:cNvSpPr/>
          <p:nvPr/>
        </p:nvSpPr>
        <p:spPr>
          <a:xfrm>
            <a:off x="6553080" y="1143000"/>
            <a:ext cx="198144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oper Black"/>
                <a:ea typeface="Times New Roman"/>
              </a:rPr>
              <a:t>Al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67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7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7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3170-4894-45A1-9A1F-261DB652F7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82" name="Picture 2" descr=""/>
          <p:cNvPicPr/>
          <p:nvPr/>
        </p:nvPicPr>
        <p:blipFill>
          <a:blip r:embed="rId1"/>
          <a:stretch/>
        </p:blipFill>
        <p:spPr>
          <a:xfrm>
            <a:off x="0" y="13032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Rubric for Evaluating</a:t>
            </a:r>
            <a:br>
              <a:rPr sz="4000"/>
            </a:br>
            <a:r>
              <a:rPr b="1" lang="en-US" sz="4000" spc="-1" strike="noStrike">
                <a:solidFill>
                  <a:srgbClr val="ff0000"/>
                </a:solidFill>
                <a:latin typeface="Calibri"/>
              </a:rPr>
              <a:t> North Carolina Teachers</a:t>
            </a:r>
            <a:endParaRPr b="0" lang="en-US" sz="4000" spc="-1" strike="noStrike">
              <a:solidFill>
                <a:srgbClr val="000000"/>
              </a:solidFill>
              <a:latin typeface="Calibri"/>
            </a:endParaRPr>
          </a:p>
        </p:txBody>
      </p:sp>
      <p:pic>
        <p:nvPicPr>
          <p:cNvPr id="1684" name="Content Placeholder 1" descr="Screen Shot 2011-08-26 at 8.21.59 AM.png"/>
          <p:cNvPicPr/>
          <p:nvPr/>
        </p:nvPicPr>
        <p:blipFill>
          <a:blip r:embed="rId1"/>
          <a:srcRect l="0" t="-2599" r="0" b="-2599"/>
          <a:stretch/>
        </p:blipFill>
        <p:spPr>
          <a:xfrm>
            <a:off x="304920" y="1600200"/>
            <a:ext cx="8610480" cy="4343400"/>
          </a:xfrm>
          <a:prstGeom prst="rect">
            <a:avLst/>
          </a:prstGeom>
          <a:ln w="28440">
            <a:solidFill>
              <a:srgbClr val="000000"/>
            </a:solidFill>
            <a:miter/>
          </a:ln>
        </p:spPr>
      </p:pic>
      <p:sp>
        <p:nvSpPr>
          <p:cNvPr id="16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9023-CF55-43BB-A12A-3262919E0A71}"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r>
              <a:rPr b="1" lang="en-US" sz="2900" spc="-1" strike="noStrike">
                <a:solidFill>
                  <a:srgbClr val="6eaa2e"/>
                </a:solidFill>
                <a:latin typeface="Calibri"/>
              </a:rPr>
              <a:t>:  </a:t>
            </a:r>
            <a:r>
              <a:rPr b="1" lang="en-US" sz="3200" spc="-1" strike="noStrike">
                <a:solidFill>
                  <a:srgbClr val="003f75"/>
                </a:solidFill>
                <a:latin typeface="Calibri"/>
              </a:rPr>
              <a:t>Teachers Demonstrate Leadership</a:t>
            </a:r>
            <a:br>
              <a:rPr sz="3200"/>
            </a:br>
            <a:r>
              <a:rPr b="1" lang="en-US" sz="3200" spc="-1" strike="noStrike">
                <a:solidFill>
                  <a:srgbClr val="003f75"/>
                </a:solidFill>
                <a:latin typeface="Calibri"/>
              </a:rPr>
              <a:t>Activity</a:t>
            </a:r>
            <a:endParaRPr b="0" lang="en-US" sz="3200" spc="-1" strike="noStrike">
              <a:solidFill>
                <a:srgbClr val="000000"/>
              </a:solidFill>
              <a:latin typeface="Calibri"/>
            </a:endParaRPr>
          </a:p>
        </p:txBody>
      </p:sp>
      <p:sp>
        <p:nvSpPr>
          <p:cNvPr id="1687" name=""/>
          <p:cNvSpPr txBox="1"/>
          <p:nvPr/>
        </p:nvSpPr>
        <p:spPr>
          <a:xfrm>
            <a:off x="45720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 each standard there are descriptors which help teachers understand what is observable.</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the standard and rating scale, list examples of evidence that would illustrate a teacher who is rated </a:t>
            </a:r>
            <a:r>
              <a:rPr b="1" lang="en-US" sz="2700" spc="-1" strike="noStrike">
                <a:solidFill>
                  <a:srgbClr val="ff0000"/>
                </a:solidFill>
                <a:latin typeface="Calibri"/>
              </a:rPr>
              <a:t>distinguished</a:t>
            </a: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ember the levels are cumulative across the rows of the rubric. </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a:t>
            </a:r>
            <a:r>
              <a:rPr b="0" lang="en-US" sz="2700" spc="-1" strike="noStrike" u="sng">
                <a:solidFill>
                  <a:srgbClr val="000000"/>
                </a:solidFill>
                <a:uFillTx/>
                <a:latin typeface="Calibri"/>
              </a:rPr>
              <a:t>distinguished teacher </a:t>
            </a:r>
            <a:r>
              <a:rPr b="0" lang="en-US" sz="2700" spc="-1" strike="noStrike">
                <a:solidFill>
                  <a:srgbClr val="000000"/>
                </a:solidFill>
                <a:latin typeface="Calibri"/>
              </a:rPr>
              <a:t>exhibits the skills and knowledge described for that element across the row. </a:t>
            </a:r>
            <a:endParaRPr b="0" lang="en-US" sz="27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Be prepared to share your example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7714-ADA1-4628-86BF-E75BD70B13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90" name=""/>
          <p:cNvGraphicFramePr/>
          <p:nvPr/>
        </p:nvGraphicFramePr>
        <p:xfrm>
          <a:off x="228600" y="1600200"/>
          <a:ext cx="8686800" cy="4842000"/>
        </p:xfrm>
        <a:graphic>
          <a:graphicData uri="http://schemas.openxmlformats.org/drawingml/2006/table">
            <a:tbl>
              <a:tblPr/>
              <a:tblGrid>
                <a:gridCol w="2390760"/>
                <a:gridCol w="6296040"/>
              </a:tblGrid>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lement 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eachers lead in their classrooms.</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5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f75"/>
                          </a:solidFill>
                          <a:latin typeface="Calibri"/>
                          <a:ea typeface="Calibri"/>
                        </a:rPr>
                        <a:t>Developing</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s assessment data available and refers to it to understand the skills and abilities of student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ccesses data from district assessment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Has written classroom management plan available and posted</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inks lessons to prior learning</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s college display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rifies that passing is necessary for graduation</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ssumes responsibility for student achievement/proficiency/growth</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5A64-744E-48F3-917F-D6B36D70B791}"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Before we begin, please go to:</a:t>
            </a:r>
            <a:endParaRPr b="0" lang="en-US" sz="4400" spc="-1" strike="noStrike">
              <a:solidFill>
                <a:srgbClr val="000000"/>
              </a:solidFill>
              <a:latin typeface="Calibri"/>
            </a:endParaRPr>
          </a:p>
        </p:txBody>
      </p:sp>
      <p:sp>
        <p:nvSpPr>
          <p:cNvPr id="1616" name=""/>
          <p:cNvSpPr txBox="1"/>
          <p:nvPr/>
        </p:nvSpPr>
        <p:spPr>
          <a:xfrm>
            <a:off x="380880" y="1295280"/>
            <a:ext cx="8382240" cy="4678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aa2d"/>
                </a:solidFill>
                <a:uFillTx/>
                <a:latin typeface="Calibri"/>
                <a:hlinkClick r:id="rId1"/>
              </a:rPr>
              <a:t>http://region1rttt.wikispaces.com/</a:t>
            </a:r>
            <a:endParaRPr b="0" lang="en-US" sz="32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this </a:t>
            </a:r>
            <a:r>
              <a:rPr b="0" i="1" lang="en-US" sz="2800" spc="-1" strike="noStrike">
                <a:solidFill>
                  <a:srgbClr val="000000"/>
                </a:solidFill>
                <a:latin typeface="Calibri"/>
              </a:rPr>
              <a:t>wikispace</a:t>
            </a:r>
            <a:r>
              <a:rPr b="0" lang="en-US" sz="2800" spc="-1" strike="noStrike">
                <a:solidFill>
                  <a:srgbClr val="000000"/>
                </a:solidFill>
                <a:latin typeface="Calibri"/>
              </a:rPr>
              <a:t> to your favorites if you have not already done so</a:t>
            </a:r>
            <a:endParaRPr b="0" lang="en-US" sz="28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a5"/>
                </a:solidFill>
                <a:latin typeface="Calibri"/>
              </a:rPr>
              <a:t>and </a:t>
            </a:r>
            <a:endParaRPr b="0" lang="en-US" sz="24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a5"/>
                </a:solidFill>
                <a:latin typeface="Calibri"/>
              </a:rPr>
              <a:t>Go to the link below and minimize it for later use </a:t>
            </a:r>
            <a:endParaRPr b="0" lang="en-US" sz="24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a5"/>
                </a:solidFill>
                <a:latin typeface="Calibri"/>
              </a:rPr>
              <a:t>in the presentation </a:t>
            </a:r>
            <a:endParaRPr b="0" lang="en-US" sz="24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6daa2d"/>
                </a:solidFill>
                <a:uFillTx/>
                <a:latin typeface="Calibri"/>
                <a:hlinkClick r:id="rId2"/>
              </a:rPr>
              <a:t>https://mxweb3.media-x.com/home/ncval/demo/</a:t>
            </a:r>
            <a:endParaRPr b="0" lang="en-US" sz="29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Principaldemo (any number 1-40)</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12345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144E-6194-4DF4-ACD4-66EAFC8E03C7}"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93" name=""/>
          <p:cNvGraphicFramePr/>
          <p:nvPr/>
        </p:nvGraphicFramePr>
        <p:xfrm>
          <a:off x="228600" y="1447920"/>
          <a:ext cx="8686800" cy="5048280"/>
        </p:xfrm>
        <a:graphic>
          <a:graphicData uri="http://schemas.openxmlformats.org/drawingml/2006/table">
            <a:tbl>
              <a:tblPr/>
              <a:tblGrid>
                <a:gridCol w="2392200"/>
                <a:gridCol w="6294600"/>
              </a:tblGrid>
              <a:tr h="504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ficient</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a variety of formative and summative assessments to evaluate student progress and guide instructio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ata analysis guides lesson plans, activities, and group assignm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mmunicates vision to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nforces the written classroom management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Reshapes instruction to fit needs of individual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Provides extra assistance to students as needed</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fers to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lates instruction to preparation for lif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Continually encourages students to graduate and plan for college/caree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rrelates best instructional practices with progress of students to ensure student college and career readin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enerates data driven interventions to support student mastery of skills and concepts taugh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123E-6991-47DB-B9AA-3619749A8F29}"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96" name=""/>
          <p:cNvGraphicFramePr/>
          <p:nvPr/>
        </p:nvGraphicFramePr>
        <p:xfrm>
          <a:off x="304920" y="1676520"/>
          <a:ext cx="8534160" cy="4190760"/>
        </p:xfrm>
        <a:graphic>
          <a:graphicData uri="http://schemas.openxmlformats.org/drawingml/2006/table">
            <a:tbl>
              <a:tblPr/>
              <a:tblGrid>
                <a:gridCol w="2349360"/>
                <a:gridCol w="6184800"/>
              </a:tblGrid>
              <a:tr h="4190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Accompl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ortfolios, rubrics, and other types of assessments to evaluate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rotocols for collaborative activi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Includes real‐life situations and 21st century skills in lesson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iscusses impact of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Provides leadership opportunities in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Vision is communicated/modeled to produce student leaders in the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ifferentiates instruction and assignments based on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reates processes and procedures to align best practices and data driven interventions to facilitate replication of best practices among pee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6104-8343-47D0-AEA7-78B9A44C231A}"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99" name=""/>
          <p:cNvGraphicFramePr/>
          <p:nvPr/>
        </p:nvGraphicFramePr>
        <p:xfrm>
          <a:off x="304920" y="1371600"/>
          <a:ext cx="8534160" cy="4732200"/>
        </p:xfrm>
        <a:graphic>
          <a:graphicData uri="http://schemas.openxmlformats.org/drawingml/2006/table">
            <a:tbl>
              <a:tblPr/>
              <a:tblGrid>
                <a:gridCol w="2349360"/>
                <a:gridCol w="6184800"/>
              </a:tblGrid>
              <a:tr h="4732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Distingu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nalyzes data with colleagues to make decisions about student needs and instructional plann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intains accurate records of every student's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stablishes procedures to ensure that all students participate in discussions and share roles in group work</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Facilitates workshops at the school level to ensure all students succeed by using best practices connected to student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eads school wide workshops on how to differentiate instruction and assignments based on data and/or how to create a safe and orderly learning environ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emonstrates processes and procedures to align best practices and data driven interventions to colleagues and coaches peers for implementation of best practic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Leads school and district PLCs in collaborative work to support teachers and improve effectivene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D336-641D-49CB-8AA4-5263DEFFC8CF}"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Classroom Visit Suggestions</a:t>
            </a:r>
            <a:br>
              <a:rPr sz="4400"/>
            </a:br>
            <a:endParaRPr b="0" lang="en-US" sz="4400" spc="-1" strike="noStrike">
              <a:solidFill>
                <a:srgbClr val="000000"/>
              </a:solidFill>
              <a:latin typeface="Calibri"/>
            </a:endParaRPr>
          </a:p>
        </p:txBody>
      </p:sp>
      <p:sp>
        <p:nvSpPr>
          <p:cNvPr id="1702" name=""/>
          <p:cNvSpPr txBox="1"/>
          <p:nvPr/>
        </p:nvSpPr>
        <p:spPr>
          <a:xfrm>
            <a:off x="304920" y="1294920"/>
            <a:ext cx="4419360" cy="483084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our visits should be welcomed by teachers and students   as an opportunity to share their classroom with you</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dy language is positive and supportiv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reet the teacher-- eye contact and a smil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t in an unobtrusive spot</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cus on what the teacher and students are </a:t>
            </a:r>
            <a:r>
              <a:rPr b="0" i="1" lang="en-US" sz="2400" spc="-1" strike="noStrike">
                <a:solidFill>
                  <a:srgbClr val="000000"/>
                </a:solidFill>
                <a:latin typeface="Calibri"/>
              </a:rPr>
              <a:t>doing—look engaged</a:t>
            </a:r>
            <a:endParaRPr b="0" lang="en-US" sz="24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703" name=""/>
          <p:cNvSpPr txBox="1"/>
          <p:nvPr/>
        </p:nvSpPr>
        <p:spPr>
          <a:xfrm>
            <a:off x="4800600" y="1294920"/>
            <a:ext cx="4114800" cy="48308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a pleasant demeanor</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ake notes unobtrusively</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lk around as appropriate looking at student work</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gage with students as appropriate</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bserve evidence of learning displayed around the roo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ve with a smile and a quiet thank you to the teacher</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21D6-5E9B-48FA-9D02-EA2DB7DAB7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Written Feedback for Quick Visits</a:t>
            </a:r>
            <a:br>
              <a:rPr sz="4400"/>
            </a:br>
            <a:endParaRPr b="0" lang="en-US" sz="4400" spc="-1" strike="noStrike">
              <a:solidFill>
                <a:srgbClr val="000000"/>
              </a:solidFill>
              <a:latin typeface="Calibri"/>
            </a:endParaRPr>
          </a:p>
        </p:txBody>
      </p:sp>
      <p:sp>
        <p:nvSpPr>
          <p:cNvPr id="1706" name=""/>
          <p:cNvSpPr txBox="1"/>
          <p:nvPr/>
        </p:nvSpPr>
        <p:spPr>
          <a:xfrm>
            <a:off x="457200" y="1295280"/>
            <a:ext cx="8229600" cy="4648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Provide the conten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Include alignment to standard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State the effective practice observed</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Give supporting evidence and detail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bout impac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 Finish off with Thank You!</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6. Follow-up with a written note or email</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5361-DB3F-44F2-AB01-D2B1FA6E920C}"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Sample Note</a:t>
            </a:r>
            <a:endParaRPr b="0" lang="en-US" sz="4400" spc="-1" strike="noStrike">
              <a:solidFill>
                <a:srgbClr val="000000"/>
              </a:solidFill>
              <a:latin typeface="Calibri"/>
            </a:endParaRPr>
          </a:p>
        </p:txBody>
      </p:sp>
      <p:sp>
        <p:nvSpPr>
          <p:cNvPr id="1709" name=""/>
          <p:cNvSpPr txBox="1"/>
          <p:nvPr/>
        </p:nvSpPr>
        <p:spPr>
          <a:xfrm>
            <a:off x="304920" y="837720"/>
            <a:ext cx="8534160" cy="4830840"/>
          </a:xfrm>
          <a:prstGeom prst="rect">
            <a:avLst/>
          </a:prstGeom>
          <a:noFill/>
          <a:ln w="0">
            <a:noFill/>
          </a:ln>
        </p:spPr>
        <p:txBody>
          <a:bodyPr anchor="t">
            <a:normAutofit fontScale="87000"/>
          </a:bodyPr>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John</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Mary</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e: 5/2/08</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my visit I observed:</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ere working in partners making predictions about how factors of light, water, and touch would effect plant growth. </a:t>
            </a: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 grade level science activity based on NCES. </a:t>
            </a: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articulated clear goals for students by telling them what they would learn and posting outcomes. </a:t>
            </a: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frequently referred to the charts/rubrics outlining their activity. This helped them stay on task.</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23BE-7D1E-4333-968D-84F881933F27}"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1" name="Rectangle 1"/>
          <p:cNvSpPr/>
          <p:nvPr/>
        </p:nvSpPr>
        <p:spPr>
          <a:xfrm>
            <a:off x="380880" y="990720"/>
            <a:ext cx="8382240" cy="649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a:t>
            </a:r>
            <a:r>
              <a:rPr b="0" lang="en-US" sz="2400" spc="-1" strike="noStrike">
                <a:solidFill>
                  <a:srgbClr val="000000"/>
                </a:solidFill>
                <a:latin typeface="Arial"/>
              </a:rPr>
              <a:t>What are the students lea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3:  </a:t>
            </a:r>
            <a:r>
              <a:rPr b="0" i="1" lang="en-US" sz="2400" spc="-1" strike="noStrike">
                <a:solidFill>
                  <a:srgbClr val="8e9bb0"/>
                </a:solidFill>
                <a:latin typeface="Arial"/>
              </a:rPr>
              <a:t>Teachers Know the Content They T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a:t>
            </a:r>
            <a:r>
              <a:rPr b="0" lang="en-US" sz="2400" spc="-1" strike="noStrike">
                <a:solidFill>
                  <a:srgbClr val="000000"/>
                </a:solidFill>
                <a:latin typeface="Arial"/>
              </a:rPr>
              <a:t>How does this learning connect to stand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 4:  </a:t>
            </a:r>
            <a:r>
              <a:rPr b="0" i="1" lang="en-US" sz="2400" spc="-1" strike="noStrike">
                <a:solidFill>
                  <a:srgbClr val="8e9bb0"/>
                </a:solidFill>
                <a:latin typeface="Arial"/>
              </a:rPr>
              <a:t>Teachers Facilitate Learning for Their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3:  </a:t>
            </a:r>
            <a:r>
              <a:rPr b="0" i="1" lang="en-US" sz="2400" spc="-1" strike="noStrike">
                <a:solidFill>
                  <a:srgbClr val="8e9bb0"/>
                </a:solidFill>
                <a:latin typeface="Arial"/>
              </a:rPr>
              <a:t>Teachers Know the Content They T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ES:  </a:t>
            </a:r>
            <a:r>
              <a:rPr b="0" lang="en-US" sz="2400" spc="-1" strike="noStrike">
                <a:solidFill>
                  <a:srgbClr val="000000"/>
                </a:solidFill>
                <a:latin typeface="Arial"/>
              </a:rPr>
              <a:t>What are the students and teacher doing? 21</a:t>
            </a:r>
            <a:r>
              <a:rPr b="0" lang="en-US" sz="2400" spc="-1" strike="noStrike" baseline="30000">
                <a:solidFill>
                  <a:srgbClr val="000000"/>
                </a:solidFill>
                <a:latin typeface="Arial"/>
              </a:rPr>
              <a:t>st</a:t>
            </a:r>
            <a:r>
              <a:rPr b="0" lang="en-US" sz="2400" spc="-1" strike="noStrike">
                <a:solidFill>
                  <a:srgbClr val="000000"/>
                </a:solidFill>
                <a:latin typeface="Arial"/>
              </a:rPr>
              <a:t> Century Skills (Use Attributes of a Future ready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2 :  </a:t>
            </a:r>
            <a:r>
              <a:rPr b="0" i="1" lang="en-US" sz="2400" spc="-1" strike="noStrike">
                <a:solidFill>
                  <a:srgbClr val="8e9bb0"/>
                </a:solidFill>
                <a:latin typeface="Arial"/>
              </a:rPr>
              <a:t>Teachers Establish a Respectful Environment for a Diverse Population of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t>
            </a:r>
            <a:r>
              <a:rPr b="0" lang="en-US" sz="2400" spc="-1" strike="noStrike">
                <a:solidFill>
                  <a:srgbClr val="000000"/>
                </a:solidFill>
                <a:latin typeface="Arial"/>
              </a:rPr>
              <a:t>How does it maintain student interest and attention?  </a:t>
            </a:r>
            <a:r>
              <a:rPr b="0" i="1" lang="en-US" sz="2400" spc="-1" strike="noStrike">
                <a:solidFill>
                  <a:srgbClr val="000000"/>
                </a:solidFill>
                <a:latin typeface="Arial"/>
              </a:rPr>
              <a:t>Describe the impact of the strategy on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Elements of the “Quick Visit”</a:t>
            </a:r>
            <a:br>
              <a:rPr sz="4400"/>
            </a:br>
            <a:endParaRPr b="0" lang="en-US" sz="4400" spc="-1" strike="noStrike">
              <a:solidFill>
                <a:srgbClr val="000000"/>
              </a:solidFill>
              <a:latin typeface="Calibri"/>
            </a:endParaRPr>
          </a:p>
        </p:txBody>
      </p:sp>
      <p:sp>
        <p:nvSpPr>
          <p:cNvPr id="171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5609-FCB5-407D-9783-CCB733D323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Viewing a Lesson</a:t>
            </a:r>
            <a:endParaRPr b="0" lang="en-US" sz="4400" spc="-1" strike="noStrike">
              <a:solidFill>
                <a:srgbClr val="000000"/>
              </a:solidFill>
              <a:latin typeface="Calibri"/>
            </a:endParaRPr>
          </a:p>
        </p:txBody>
      </p:sp>
      <p:sp>
        <p:nvSpPr>
          <p:cNvPr id="1715" name=""/>
          <p:cNvSpPr txBox="1"/>
          <p:nvPr/>
        </p:nvSpPr>
        <p:spPr>
          <a:xfrm>
            <a:off x="457200" y="164628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1"/>
              </a:rPr>
              <a:t>Conten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2"/>
              </a:rPr>
              <a:t>Alignmen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3"/>
              </a:rPr>
              <a:t>Strategi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4"/>
              </a:rPr>
              <a:t>Impact</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eea"/>
                </a:solidFill>
                <a:uFillTx/>
                <a:latin typeface="Calibri"/>
              </a:rPr>
              <a:t>http://www.insidemathematics.org/index.php/tools-for-teachers</a:t>
            </a:r>
            <a:endParaRPr b="0" lang="en-US" sz="24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388F-B932-42F7-B66D-AE0B5BCC77D8}"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1"/>
          <p:cNvSpPr/>
          <p:nvPr/>
        </p:nvSpPr>
        <p:spPr>
          <a:xfrm>
            <a:off x="304920" y="30492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your classroom observations on what the </a:t>
            </a:r>
            <a:r>
              <a:rPr b="1" lang="en-US" sz="2800" spc="-1" strike="noStrike">
                <a:solidFill>
                  <a:srgbClr val="ff0000"/>
                </a:solidFill>
                <a:latin typeface="Calibri"/>
              </a:rPr>
              <a:t>student is doing </a:t>
            </a:r>
            <a:r>
              <a:rPr b="0" lang="en-US" sz="2800" spc="-1" strike="noStrike">
                <a:solidFill>
                  <a:srgbClr val="000000"/>
                </a:solidFill>
                <a:latin typeface="Calibri"/>
              </a:rPr>
              <a:t>rather than on what the teacher is doing.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guide helps the observer to </a:t>
            </a:r>
            <a:r>
              <a:rPr b="1" lang="en-US" sz="2800" spc="-1" strike="noStrike">
                <a:solidFill>
                  <a:srgbClr val="ff0000"/>
                </a:solidFill>
                <a:latin typeface="Calibri"/>
              </a:rPr>
              <a:t>focus on students’ thinking, their ideas, understandings, misconceptions and their work during classroom observatio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lang="en-US" sz="2800" spc="-1" strike="noStrike">
                <a:solidFill>
                  <a:srgbClr val="000000"/>
                </a:solidFill>
                <a:latin typeface="Calibri"/>
              </a:rPr>
              <a:t>It asks the observer to look for and record evidence of how students are making sense of the subject, what processes they are using, how they reason, and what approach they use to attack and/or solve problem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 also asks observers to look for what misconceptions students hold and where those misconceptions originate. </a:t>
            </a:r>
            <a:endParaRPr b="0" lang="en-US" sz="2800" spc="-1" strike="noStrike">
              <a:solidFill>
                <a:srgbClr val="000000"/>
              </a:solidFill>
              <a:latin typeface="Arial"/>
            </a:endParaRPr>
          </a:p>
        </p:txBody>
      </p:sp>
      <p:sp>
        <p:nvSpPr>
          <p:cNvPr id="171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6641-CC73-4C79-91C5-DE07219CACDE}"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OOK FOR</a:t>
            </a:r>
            <a:endParaRPr b="0" lang="en-US" sz="4400" spc="-1" strike="noStrike">
              <a:solidFill>
                <a:srgbClr val="000000"/>
              </a:solidFill>
              <a:latin typeface="Calibri"/>
            </a:endParaRPr>
          </a:p>
        </p:txBody>
      </p:sp>
      <p:sp>
        <p:nvSpPr>
          <p:cNvPr id="172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are students making sense of the conten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approach are students using to attack and/or solve problem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misconceptions do students hold and where do those misconceptions originate?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649F-073B-4F11-85EF-48546EA72143}"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Our Agenda </a:t>
            </a:r>
            <a:endParaRPr b="0" lang="en-US" sz="4400" spc="-1" strike="noStrike">
              <a:solidFill>
                <a:srgbClr val="000000"/>
              </a:solidFill>
              <a:latin typeface="Calibri"/>
            </a:endParaRPr>
          </a:p>
        </p:txBody>
      </p:sp>
      <p:sp>
        <p:nvSpPr>
          <p:cNvPr id="1619" name=""/>
          <p:cNvSpPr txBox="1"/>
          <p:nvPr/>
        </p:nvSpPr>
        <p:spPr>
          <a:xfrm>
            <a:off x="457200" y="1371600"/>
            <a:ext cx="8229600" cy="5029200"/>
          </a:xfrm>
          <a:prstGeom prst="rect">
            <a:avLst/>
          </a:prstGeom>
          <a:noFill/>
          <a:ln w="0">
            <a:noFill/>
          </a:ln>
        </p:spPr>
        <p:txBody>
          <a:bodyPr anchor="t">
            <a:norm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lcome, introductions, agenda overview</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your understanding of the Evaluation Proces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Evaluation Policy</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Rater Reliability</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room Visits-record using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valuation tool (McRel)</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cRel-Group reports and summary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f teacher activities (If time permit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cket out the Door</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20" name="Picture 4" descr="C:\Users\eedwards\AppData\Local\Microsoft\Windows\Temporary Internet Files\Content.IE5\PR30TM4L\MP900401668[1].jpg"/>
          <p:cNvPicPr/>
          <p:nvPr/>
        </p:nvPicPr>
        <p:blipFill>
          <a:blip r:embed="rId1"/>
          <a:stretch/>
        </p:blipFill>
        <p:spPr>
          <a:xfrm>
            <a:off x="5638680" y="2819520"/>
            <a:ext cx="2987640" cy="2490840"/>
          </a:xfrm>
          <a:prstGeom prst="rect">
            <a:avLst/>
          </a:prstGeom>
          <a:ln w="0">
            <a:noFill/>
          </a:ln>
        </p:spPr>
      </p:pic>
      <p:sp>
        <p:nvSpPr>
          <p:cNvPr id="16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78A6-5FB8-42AC-A14D-0B6CF549169C}"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1"/>
          <p:cNvSpPr/>
          <p:nvPr/>
        </p:nvSpPr>
        <p:spPr>
          <a:xfrm>
            <a:off x="457200" y="60948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also needs to </a:t>
            </a:r>
            <a:r>
              <a:rPr b="1" lang="en-US" sz="2800" spc="-1" strike="noStrike">
                <a:solidFill>
                  <a:srgbClr val="ff0000"/>
                </a:solidFill>
                <a:latin typeface="Calibri"/>
              </a:rPr>
              <a:t>focus on how students interact with each other.</a:t>
            </a:r>
            <a:r>
              <a:rPr b="0" lang="en-US" sz="2800" spc="-1" strike="noStrike">
                <a:solidFill>
                  <a:srgbClr val="ff0000"/>
                </a:solidFill>
                <a:latin typeface="Calibri"/>
              </a:rPr>
              <a:t>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o they effectively communicate and listen to each other and use each other as resourc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en students seek authority over whether a solution is correct, do they rely on others, do they ask the teacher, or can they reason for themselves using their knowledge of the subject and log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Are all students engaged and do they take risks and shar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should then use that information as the basis for discussion with the teacher during the post-conference.</a:t>
            </a:r>
            <a:endParaRPr b="0" lang="en-US" sz="2800" spc="-1" strike="noStrike">
              <a:solidFill>
                <a:srgbClr val="000000"/>
              </a:solidFill>
              <a:latin typeface="Arial"/>
            </a:endParaRPr>
          </a:p>
        </p:txBody>
      </p:sp>
      <p:sp>
        <p:nvSpPr>
          <p:cNvPr id="172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C9A4-3E50-4F06-9355-04D9F7DA8AD0}"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OOK FOR</a:t>
            </a:r>
            <a:endParaRPr b="0" lang="en-US" sz="4400" spc="-1" strike="noStrike">
              <a:solidFill>
                <a:srgbClr val="000000"/>
              </a:solidFill>
              <a:latin typeface="Calibri"/>
            </a:endParaRPr>
          </a:p>
        </p:txBody>
      </p:sp>
      <p:sp>
        <p:nvSpPr>
          <p:cNvPr id="1725" name=""/>
          <p:cNvSpPr txBox="1"/>
          <p:nvPr/>
        </p:nvSpPr>
        <p:spPr>
          <a:xfrm>
            <a:off x="457200" y="1371240"/>
            <a:ext cx="8229600" cy="4754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o students effectively communicate and listen to each other and use each other as resourc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re all students involved and active in the task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en students seek authority over whether a solution is correct, do they rely on others, do they ask the teacher, or can they reason for themselves using their knowledge of the subject and logi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17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67DA-9633-40E9-9942-19D83D89EB8D}"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7" name="Rectangle 3"/>
          <p:cNvSpPr/>
          <p:nvPr/>
        </p:nvSpPr>
        <p:spPr>
          <a:xfrm>
            <a:off x="609480" y="228600"/>
            <a:ext cx="78487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focus on student thinking and student work </a:t>
            </a:r>
            <a:r>
              <a:rPr b="0" lang="en-US" sz="2800" spc="-1" strike="noStrike">
                <a:solidFill>
                  <a:srgbClr val="000000"/>
                </a:solidFill>
                <a:latin typeface="Calibri"/>
              </a:rPr>
              <a:t>sets the stage for a dialogue between the teacher and observer.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uring the pre-conference the observer might work with the teacher to decide on which standard they should focu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observer might want to show the coach the particular questions he or she will be focusing on during the classroom observation or the observer and teacher might use the questions as a guide to planning the lesson that will be observed.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 is also possible that the observer may not directly ask the questions in the guide but use them to assess the teacher’s thinking about the lesson they will be teaching</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172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2EB1-15D6-4290-9B8C-045CD55C75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t’s Look at the NC Teacher Evaluation Instrument</a:t>
            </a:r>
            <a:endParaRPr b="0" lang="en-US" sz="4400" spc="-1" strike="noStrike">
              <a:solidFill>
                <a:srgbClr val="000000"/>
              </a:solidFill>
              <a:latin typeface="Calibri"/>
            </a:endParaRPr>
          </a:p>
        </p:txBody>
      </p:sp>
      <p:sp>
        <p:nvSpPr>
          <p:cNvPr id="1730"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s://mxweb3.media-x.com/home/ncval/demo/</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Principaldemo (any number 1-4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123456</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173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D4A4-80C2-4ADF-AFC4-69015D203410}"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Record What You Saw</a:t>
            </a:r>
            <a:endParaRPr b="0" lang="en-US" sz="4400" spc="-1" strike="noStrike">
              <a:solidFill>
                <a:srgbClr val="000000"/>
              </a:solidFill>
              <a:latin typeface="Calibri"/>
            </a:endParaRPr>
          </a:p>
        </p:txBody>
      </p:sp>
      <p:sp>
        <p:nvSpPr>
          <p:cNvPr id="1733" name=""/>
          <p:cNvSpPr txBox="1"/>
          <p:nvPr/>
        </p:nvSpPr>
        <p:spPr>
          <a:xfrm>
            <a:off x="457200" y="1295280"/>
            <a:ext cx="8229600" cy="452592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n a “New Observation” </a:t>
            </a:r>
            <a:endParaRPr b="0" lang="en-US" sz="36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ord what you saw in the “Comments” section of each of the standards you were able to observe. </a:t>
            </a:r>
            <a:endParaRPr b="0" lang="en-US" sz="36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rt with your initials and the date (example:  dhm10/30/2011).</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4348-7C4F-4518-A294-AB0D36EA5C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5" name="Picture 2" descr=""/>
          <p:cNvPicPr/>
          <p:nvPr/>
        </p:nvPicPr>
        <p:blipFill>
          <a:blip r:embed="rId1"/>
          <a:stretch/>
        </p:blipFill>
        <p:spPr>
          <a:xfrm>
            <a:off x="3352680" y="3424320"/>
            <a:ext cx="2438640" cy="9360"/>
          </a:xfrm>
          <a:prstGeom prst="rect">
            <a:avLst/>
          </a:prstGeom>
          <a:ln w="0">
            <a:noFill/>
          </a:ln>
        </p:spPr>
      </p:pic>
      <p:pic>
        <p:nvPicPr>
          <p:cNvPr id="1736" name="Picture 3" descr=""/>
          <p:cNvPicPr/>
          <p:nvPr/>
        </p:nvPicPr>
        <p:blipFill>
          <a:blip r:embed="rId2"/>
          <a:stretch/>
        </p:blipFill>
        <p:spPr>
          <a:xfrm>
            <a:off x="3352680" y="3424320"/>
            <a:ext cx="2438640" cy="9360"/>
          </a:xfrm>
          <a:prstGeom prst="rect">
            <a:avLst/>
          </a:prstGeom>
          <a:ln w="0">
            <a:noFill/>
          </a:ln>
        </p:spPr>
      </p:pic>
      <p:pic>
        <p:nvPicPr>
          <p:cNvPr id="1737" name="Rectangle 5" descr=""/>
          <p:cNvPicPr/>
          <p:nvPr/>
        </p:nvPicPr>
        <p:blipFill>
          <a:blip r:embed="rId3"/>
          <a:stretch/>
        </p:blipFill>
        <p:spPr>
          <a:xfrm>
            <a:off x="-6480" y="225360"/>
            <a:ext cx="9156960" cy="5254560"/>
          </a:xfrm>
          <a:prstGeom prst="rect">
            <a:avLst/>
          </a:prstGeom>
          <a:ln w="0">
            <a:noFill/>
          </a:ln>
        </p:spPr>
      </p:pic>
      <p:sp>
        <p:nvSpPr>
          <p:cNvPr id="17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158A-5753-4687-B50B-8EC8319548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1"/>
          <p:cNvSpPr/>
          <p:nvPr/>
        </p:nvSpPr>
        <p:spPr>
          <a:xfrm>
            <a:off x="228600" y="457200"/>
            <a:ext cx="8686800" cy="524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 the post-conference the </a:t>
            </a:r>
            <a:r>
              <a:rPr b="1" lang="en-US" sz="2600" spc="-1" strike="noStrike">
                <a:solidFill>
                  <a:srgbClr val="000000"/>
                </a:solidFill>
                <a:latin typeface="Arial"/>
              </a:rPr>
              <a:t>observer may report what he or she saw students doing during the lesson </a:t>
            </a:r>
            <a:r>
              <a:rPr b="0" lang="en-US" sz="2600" spc="-1" strike="noStrike">
                <a:solidFill>
                  <a:srgbClr val="000000"/>
                </a:solidFill>
                <a:latin typeface="Arial"/>
              </a:rPr>
              <a:t>or the teacher and observer may examine student work products.</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bserver uses the findings </a:t>
            </a:r>
            <a:r>
              <a:rPr b="1" lang="en-US" sz="2600" spc="-1" strike="noStrike">
                <a:solidFill>
                  <a:srgbClr val="ff0000"/>
                </a:solidFill>
                <a:latin typeface="Arial"/>
              </a:rPr>
              <a:t>and data collection from the observation</a:t>
            </a:r>
            <a:r>
              <a:rPr b="0" lang="en-US" sz="2600" spc="-1" strike="noStrike">
                <a:solidFill>
                  <a:srgbClr val="000000"/>
                </a:solidFill>
                <a:latin typeface="Arial"/>
              </a:rPr>
              <a:t> or from the student work to initiate a discussion with the teacher. </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ing the collected data with the teacher often provokes the teacher to ask questions or seek to answers about certain instructional strategies, worthwhile tasks, teacher moves, content knowledge and/or techniques for establishing a more student-centered classroom environment.</a:t>
            </a:r>
            <a:endParaRPr b="0" lang="en-US" sz="2600" spc="-1" strike="noStrike">
              <a:solidFill>
                <a:srgbClr val="000000"/>
              </a:solidFill>
              <a:latin typeface="Arial"/>
            </a:endParaRPr>
          </a:p>
        </p:txBody>
      </p:sp>
      <p:sp>
        <p:nvSpPr>
          <p:cNvPr id="174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CF38-074F-41BB-8572-916A08493B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1" name="Picture 5" descr="questions.jpg"/>
          <p:cNvPicPr/>
          <p:nvPr/>
        </p:nvPicPr>
        <p:blipFill>
          <a:blip r:embed="rId1"/>
          <a:stretch/>
        </p:blipFill>
        <p:spPr>
          <a:xfrm>
            <a:off x="990720" y="685800"/>
            <a:ext cx="6949800" cy="5211720"/>
          </a:xfrm>
          <a:prstGeom prst="rect">
            <a:avLst/>
          </a:prstGeom>
          <a:ln w="0">
            <a:noFill/>
          </a:ln>
        </p:spPr>
      </p:pic>
      <p:sp>
        <p:nvSpPr>
          <p:cNvPr id="174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39AA-8316-4A78-8572-C4F36A9ABB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0000"/>
                </a:solidFill>
                <a:latin typeface="Calibri"/>
              </a:rPr>
              <a:t>Region 1</a:t>
            </a:r>
            <a:br>
              <a:rPr sz="3600"/>
            </a:br>
            <a:r>
              <a:rPr b="1" lang="en-US" sz="3600" spc="-1" strike="noStrike">
                <a:solidFill>
                  <a:srgbClr val="ff0000"/>
                </a:solidFill>
                <a:latin typeface="Calibri"/>
              </a:rPr>
              <a:t>Professional Development Consultants</a:t>
            </a:r>
            <a:br>
              <a:rPr sz="3600"/>
            </a:br>
            <a:endParaRPr b="0" lang="en-US" sz="3600" spc="-1" strike="noStrike">
              <a:solidFill>
                <a:srgbClr val="000000"/>
              </a:solidFill>
              <a:latin typeface="Calibri"/>
            </a:endParaRPr>
          </a:p>
        </p:txBody>
      </p:sp>
      <p:sp>
        <p:nvSpPr>
          <p:cNvPr id="1744" name=""/>
          <p:cNvSpPr txBox="1"/>
          <p:nvPr/>
        </p:nvSpPr>
        <p:spPr>
          <a:xfrm>
            <a:off x="304560" y="1600200"/>
            <a:ext cx="419076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3200" spc="-1" strike="noStrike">
                <a:solidFill>
                  <a:srgbClr val="000000"/>
                </a:solidFill>
                <a:latin typeface="Calibri"/>
              </a:rPr>
              <a:t>       </a:t>
            </a:r>
            <a:r>
              <a:rPr b="1" lang="en-US" sz="2000" spc="-1" strike="noStrike">
                <a:solidFill>
                  <a:srgbClr val="000000"/>
                </a:solidFill>
                <a:latin typeface="Calibri"/>
              </a:rPr>
              <a:t>Berti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Camden</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Currituck</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Dar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Edenton-Chowan</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Elizabeth City-Pasquotank</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Gate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Perquiman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45" name=""/>
          <p:cNvSpPr txBox="1"/>
          <p:nvPr/>
        </p:nvSpPr>
        <p:spPr>
          <a:xfrm>
            <a:off x="4571640" y="1676160"/>
            <a:ext cx="43434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2000" spc="-1" strike="noStrike">
                <a:solidFill>
                  <a:srgbClr val="000000"/>
                </a:solidFill>
                <a:latin typeface="Calibri"/>
              </a:rPr>
              <a:t>Beaufor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ertfor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yd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Marti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Pit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Tyrrel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Washingt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2032-F0DD-4072-8D83-ADACD9873E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7" name="Picture 3" descr=""/>
          <p:cNvPicPr/>
          <p:nvPr/>
        </p:nvPicPr>
        <p:blipFill>
          <a:blip r:embed="rId1"/>
          <a:stretch/>
        </p:blipFill>
        <p:spPr>
          <a:xfrm rot="20986200">
            <a:off x="6490800" y="210600"/>
            <a:ext cx="2529000" cy="1619280"/>
          </a:xfrm>
          <a:prstGeom prst="rect">
            <a:avLst/>
          </a:prstGeom>
          <a:ln w="0">
            <a:noFill/>
          </a:ln>
        </p:spPr>
      </p:pic>
      <p:sp>
        <p:nvSpPr>
          <p:cNvPr id="1748"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icket out the Door</a:t>
            </a:r>
            <a:endParaRPr b="0" lang="en-US" sz="5400" spc="-1" strike="noStrike">
              <a:solidFill>
                <a:srgbClr val="000000"/>
              </a:solidFill>
              <a:latin typeface="Calibri"/>
            </a:endParaRPr>
          </a:p>
        </p:txBody>
      </p:sp>
      <p:sp>
        <p:nvSpPr>
          <p:cNvPr id="1749" name=""/>
          <p:cNvSpPr txBox="1"/>
          <p:nvPr/>
        </p:nvSpPr>
        <p:spPr>
          <a:xfrm>
            <a:off x="457200" y="1981080"/>
            <a:ext cx="8229600" cy="4525920"/>
          </a:xfrm>
          <a:prstGeom prst="rect">
            <a:avLst/>
          </a:prstGeom>
          <a:noFill/>
          <a:ln w="0">
            <a:noFill/>
          </a:ln>
        </p:spPr>
        <p:txBody>
          <a:bodyPr anchor="t">
            <a:norm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Please complete the </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Narrow"/>
              </a:rPr>
              <a:t>Ticket out the Door  </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Narrow"/>
              </a:rPr>
              <a:t>before you leave.</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50"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51" name="TextBox 5"/>
          <p:cNvSpPr/>
          <p:nvPr/>
        </p:nvSpPr>
        <p:spPr>
          <a:xfrm rot="20588400">
            <a:off x="7054200" y="809640"/>
            <a:ext cx="145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
        <p:nvSpPr>
          <p:cNvPr id="175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BF68-97BA-414E-8851-709A2DC7A3D4}"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an We Agree?</a:t>
            </a:r>
            <a:endParaRPr b="0" lang="en-US" sz="4400" spc="-1" strike="noStrike">
              <a:solidFill>
                <a:srgbClr val="000000"/>
              </a:solidFill>
              <a:latin typeface="Calibri"/>
            </a:endParaRPr>
          </a:p>
        </p:txBody>
      </p:sp>
      <p:sp>
        <p:nvSpPr>
          <p:cNvPr id="16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actively invol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 differ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to Disag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take it perso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hon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y focused on established purpose and goals</a:t>
            </a:r>
            <a:endParaRPr b="0" lang="en-US" sz="3200" spc="-1" strike="noStrike">
              <a:solidFill>
                <a:srgbClr val="000000"/>
              </a:solidFill>
              <a:latin typeface="Calibri"/>
            </a:endParaRPr>
          </a:p>
        </p:txBody>
      </p:sp>
      <p:sp>
        <p:nvSpPr>
          <p:cNvPr id="16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3E48-D13C-4719-86C4-5A3ACEA789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5" name="Picture 3" descr="C:\Users\jgardner\AppData\Local\Microsoft\Windows\Temporary Internet Files\Content.IE5\XXOGLXC2\MP900430507[1].jpg"/>
          <p:cNvPicPr/>
          <p:nvPr/>
        </p:nvPicPr>
        <p:blipFill>
          <a:blip r:embed="rId1"/>
          <a:stretch/>
        </p:blipFill>
        <p:spPr>
          <a:xfrm>
            <a:off x="3886200" y="1219320"/>
            <a:ext cx="5257800" cy="4952880"/>
          </a:xfrm>
          <a:prstGeom prst="rect">
            <a:avLst/>
          </a:prstGeom>
          <a:ln w="0">
            <a:noFill/>
          </a:ln>
        </p:spPr>
      </p:pic>
      <p:sp>
        <p:nvSpPr>
          <p:cNvPr id="16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A09B-6C0C-4985-A572-4E3C2BFD4D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27" name="PlaceHolder 1"/>
          <p:cNvSpPr>
            <a:spLocks noGrp="1"/>
          </p:cNvSpPr>
          <p:nvPr>
            <p:ph type="title"/>
          </p:nvPr>
        </p:nvSpPr>
        <p:spPr>
          <a:xfrm>
            <a:off x="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Evaluation is…</a:t>
            </a:r>
            <a:br>
              <a:rPr sz="4000"/>
            </a:br>
            <a:r>
              <a:rPr b="1" lang="en-US" sz="2900" spc="-1" strike="noStrike">
                <a:solidFill>
                  <a:srgbClr val="0070c0"/>
                </a:solidFill>
                <a:latin typeface="Calibri"/>
              </a:rPr>
              <a:t>Affinity Diagram</a:t>
            </a:r>
            <a:endParaRPr b="0" lang="en-US" sz="2900" spc="-1" strike="noStrike">
              <a:solidFill>
                <a:srgbClr val="000000"/>
              </a:solidFill>
              <a:latin typeface="Calibri"/>
            </a:endParaRPr>
          </a:p>
        </p:txBody>
      </p:sp>
      <p:sp>
        <p:nvSpPr>
          <p:cNvPr id="1628" name="Rectangle 3"/>
          <p:cNvSpPr/>
          <p:nvPr/>
        </p:nvSpPr>
        <p:spPr>
          <a:xfrm>
            <a:off x="533520" y="1676520"/>
            <a:ext cx="8229600" cy="396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Individually: Silently</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nsider what you know about the evaluation proces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rite one thought per sticky note</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rite as many thoughts as you hav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Whole Table: Quietl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bine all sticky notes on the table</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rganize similar ideas in categorie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abel the categorie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tack/combine like idea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dentify three major ideas that emerged.</a:t>
            </a:r>
            <a:endParaRPr b="0" lang="en-US" sz="20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TextBox 6"/>
          <p:cNvSpPr/>
          <p:nvPr/>
        </p:nvSpPr>
        <p:spPr>
          <a:xfrm>
            <a:off x="7932960" y="-6480"/>
            <a:ext cx="1139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S Office Clip Ar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1630" name="ShockwaveFlash2"/>
          <p:cNvGraphicFramePr/>
          <p:nvPr/>
        </p:nvGraphicFramePr>
        <p:xfrm>
          <a:off x="7391520" y="5334120"/>
          <a:ext cx="1752480" cy="685800"/>
        </p:xfrm>
        <a:graphic>
          <a:graphicData uri="http://schemas.openxmlformats.org/presentationml/2006/ole">
            <p:oleObj r:id="rId2" spid="">
              <p:embed/>
              <p:pic>
                <p:nvPicPr>
                  <p:cNvPr id="1631" name="ShockwaveFlash2" descr=""/>
                  <p:cNvPicPr/>
                  <p:nvPr/>
                </p:nvPicPr>
                <p:blipFill>
                  <a:blip r:embed="rId3"/>
                  <a:stretch/>
                </p:blipFill>
                <p:spPr>
                  <a:xfrm>
                    <a:off x="7391520" y="5334120"/>
                    <a:ext cx="1752480" cy="685800"/>
                  </a:xfrm>
                  <a:prstGeom prst="rect">
                    <a:avLst/>
                  </a:prstGeom>
                  <a:ln w="9360">
                    <a:solidFill>
                      <a:srgbClr val="000000"/>
                    </a:solidFill>
                    <a:miter/>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28">
                                            <p:txEl>
                                              <p:pRg st="0" end="0"/>
                                            </p:txEl>
                                          </p:spTgt>
                                        </p:tgtEl>
                                        <p:attrNameLst>
                                          <p:attrName>style.visibility</p:attrName>
                                        </p:attrNameLst>
                                      </p:cBhvr>
                                      <p:to>
                                        <p:strVal val="visible"/>
                                      </p:to>
                                    </p:set>
                                    <p:animEffect filter="fade" transition="in">
                                      <p:cBhvr additive="repl">
                                        <p:cTn id="7" dur="2000"/>
                                        <p:tgtEl>
                                          <p:spTgt spid="1628">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628">
                                            <p:txEl>
                                              <p:pRg st="1" end="1"/>
                                            </p:txEl>
                                          </p:spTgt>
                                        </p:tgtEl>
                                        <p:attrNameLst>
                                          <p:attrName>style.visibility</p:attrName>
                                        </p:attrNameLst>
                                      </p:cBhvr>
                                      <p:to>
                                        <p:strVal val="visible"/>
                                      </p:to>
                                    </p:set>
                                    <p:animEffect filter="fade" transition="in">
                                      <p:cBhvr additive="repl">
                                        <p:cTn id="10" dur="2000"/>
                                        <p:tgtEl>
                                          <p:spTgt spid="1628">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628">
                                            <p:txEl>
                                              <p:pRg st="2" end="2"/>
                                            </p:txEl>
                                          </p:spTgt>
                                        </p:tgtEl>
                                        <p:attrNameLst>
                                          <p:attrName>style.visibility</p:attrName>
                                        </p:attrNameLst>
                                      </p:cBhvr>
                                      <p:to>
                                        <p:strVal val="visible"/>
                                      </p:to>
                                    </p:set>
                                    <p:animEffect filter="fade" transition="in">
                                      <p:cBhvr additive="repl">
                                        <p:cTn id="13" dur="2000"/>
                                        <p:tgtEl>
                                          <p:spTgt spid="1628">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628">
                                            <p:txEl>
                                              <p:pRg st="3" end="3"/>
                                            </p:txEl>
                                          </p:spTgt>
                                        </p:tgtEl>
                                        <p:attrNameLst>
                                          <p:attrName>style.visibility</p:attrName>
                                        </p:attrNameLst>
                                      </p:cBhvr>
                                      <p:to>
                                        <p:strVal val="visible"/>
                                      </p:to>
                                    </p:set>
                                    <p:animEffect filter="fade" transition="in">
                                      <p:cBhvr additive="repl">
                                        <p:cTn id="18" dur="2000"/>
                                        <p:tgtEl>
                                          <p:spTgt spid="1628">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628">
                                            <p:txEl>
                                              <p:pRg st="5" end="5"/>
                                            </p:txEl>
                                          </p:spTgt>
                                        </p:tgtEl>
                                        <p:attrNameLst>
                                          <p:attrName>style.visibility</p:attrName>
                                        </p:attrNameLst>
                                      </p:cBhvr>
                                      <p:to>
                                        <p:strVal val="visible"/>
                                      </p:to>
                                    </p:set>
                                    <p:animEffect filter="fade" transition="in">
                                      <p:cBhvr additive="repl">
                                        <p:cTn id="23" dur="2000"/>
                                        <p:tgtEl>
                                          <p:spTgt spid="1628">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628">
                                            <p:txEl>
                                              <p:pRg st="6" end="6"/>
                                            </p:txEl>
                                          </p:spTgt>
                                        </p:tgtEl>
                                        <p:attrNameLst>
                                          <p:attrName>style.visibility</p:attrName>
                                        </p:attrNameLst>
                                      </p:cBhvr>
                                      <p:to>
                                        <p:strVal val="visible"/>
                                      </p:to>
                                    </p:set>
                                    <p:animEffect filter="fade" transition="in">
                                      <p:cBhvr additive="repl">
                                        <p:cTn id="26" dur="2000"/>
                                        <p:tgtEl>
                                          <p:spTgt spid="1628">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628">
                                            <p:txEl>
                                              <p:pRg st="7" end="7"/>
                                            </p:txEl>
                                          </p:spTgt>
                                        </p:tgtEl>
                                        <p:attrNameLst>
                                          <p:attrName>style.visibility</p:attrName>
                                        </p:attrNameLst>
                                      </p:cBhvr>
                                      <p:to>
                                        <p:strVal val="visible"/>
                                      </p:to>
                                    </p:set>
                                    <p:animEffect filter="fade" transition="in">
                                      <p:cBhvr additive="repl">
                                        <p:cTn id="29" dur="2000"/>
                                        <p:tgtEl>
                                          <p:spTgt spid="1628">
                                            <p:txEl>
                                              <p:pRg st="7" end="7"/>
                                            </p:txEl>
                                          </p:spTgt>
                                        </p:tgtEl>
                                      </p:cBhvr>
                                    </p:animEffect>
                                  </p:childTnLst>
                                </p:cTn>
                              </p:par>
                              <p:par>
                                <p:cTn id="30" nodeType="withEffect" fill="hold" presetClass="entr" presetID="10">
                                  <p:stCondLst>
                                    <p:cond delay="0"/>
                                  </p:stCondLst>
                                  <p:childTnLst>
                                    <p:set>
                                      <p:cBhvr>
                                        <p:cTn id="31" dur="1" fill="hold">
                                          <p:stCondLst>
                                            <p:cond delay="0"/>
                                          </p:stCondLst>
                                        </p:cTn>
                                        <p:tgtEl>
                                          <p:spTgt spid="1628">
                                            <p:txEl>
                                              <p:pRg st="8" end="8"/>
                                            </p:txEl>
                                          </p:spTgt>
                                        </p:tgtEl>
                                        <p:attrNameLst>
                                          <p:attrName>style.visibility</p:attrName>
                                        </p:attrNameLst>
                                      </p:cBhvr>
                                      <p:to>
                                        <p:strVal val="visible"/>
                                      </p:to>
                                    </p:set>
                                    <p:animEffect filter="fade" transition="in">
                                      <p:cBhvr additive="repl">
                                        <p:cTn id="32" dur="2000"/>
                                        <p:tgtEl>
                                          <p:spTgt spid="1628">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1628">
                                            <p:txEl>
                                              <p:pRg st="9" end="9"/>
                                            </p:txEl>
                                          </p:spTgt>
                                        </p:tgtEl>
                                        <p:attrNameLst>
                                          <p:attrName>style.visibility</p:attrName>
                                        </p:attrNameLst>
                                      </p:cBhvr>
                                      <p:to>
                                        <p:strVal val="visible"/>
                                      </p:to>
                                    </p:set>
                                    <p:animEffect filter="fade" transition="in">
                                      <p:cBhvr additive="repl">
                                        <p:cTn id="35" dur="2000"/>
                                        <p:tgtEl>
                                          <p:spTgt spid="1628">
                                            <p:txEl>
                                              <p:pRg st="9" end="9"/>
                                            </p:txEl>
                                          </p:spTgt>
                                        </p:tgtEl>
                                      </p:cBhvr>
                                    </p:animEffect>
                                  </p:childTnLst>
                                </p:cTn>
                              </p:par>
                              <p:par>
                                <p:cTn id="36" nodeType="withEffect" fill="hold" presetClass="entr" presetID="10">
                                  <p:stCondLst>
                                    <p:cond delay="0"/>
                                  </p:stCondLst>
                                  <p:childTnLst>
                                    <p:set>
                                      <p:cBhvr>
                                        <p:cTn id="37" dur="1" fill="hold">
                                          <p:stCondLst>
                                            <p:cond delay="0"/>
                                          </p:stCondLst>
                                        </p:cTn>
                                        <p:tgtEl>
                                          <p:spTgt spid="1628">
                                            <p:txEl>
                                              <p:pRg st="10" end="10"/>
                                            </p:txEl>
                                          </p:spTgt>
                                        </p:tgtEl>
                                        <p:attrNameLst>
                                          <p:attrName>style.visibility</p:attrName>
                                        </p:attrNameLst>
                                      </p:cBhvr>
                                      <p:to>
                                        <p:strVal val="visible"/>
                                      </p:to>
                                    </p:set>
                                    <p:animEffect filter="fade" transition="in">
                                      <p:cBhvr additive="repl">
                                        <p:cTn id="38" dur="2000"/>
                                        <p:tgtEl>
                                          <p:spTgt spid="16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2" name="Picture 2" descr=""/>
          <p:cNvPicPr/>
          <p:nvPr/>
        </p:nvPicPr>
        <p:blipFill>
          <a:blip r:embed="rId1"/>
          <a:stretch/>
        </p:blipFill>
        <p:spPr>
          <a:xfrm>
            <a:off x="0" y="0"/>
            <a:ext cx="9144000" cy="6858000"/>
          </a:xfrm>
          <a:prstGeom prst="rect">
            <a:avLst/>
          </a:prstGeom>
          <a:ln w="0">
            <a:noFill/>
          </a:ln>
        </p:spPr>
      </p:pic>
      <p:sp>
        <p:nvSpPr>
          <p:cNvPr id="163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C6E7-2491-42F7-B6F0-77289931C9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Annual Evaluation Policy for Career Teachers</a:t>
            </a:r>
            <a:endParaRPr b="0" lang="en-US" sz="4400" spc="-1" strike="noStrike">
              <a:solidFill>
                <a:srgbClr val="000000"/>
              </a:solidFill>
              <a:latin typeface="Calibri"/>
            </a:endParaRPr>
          </a:p>
        </p:txBody>
      </p:sp>
      <p:sp>
        <p:nvSpPr>
          <p:cNvPr id="16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
        <p:nvSpPr>
          <p:cNvPr id="16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7F44-43DE-452B-A0BC-A544F460B8CB}"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Requirements for Abbreviated Evaluation</a:t>
            </a:r>
            <a:endParaRPr b="0" lang="en-US" sz="4000" spc="-1" strike="noStrike">
              <a:solidFill>
                <a:srgbClr val="000000"/>
              </a:solidFill>
              <a:latin typeface="Calibri"/>
            </a:endParaRPr>
          </a:p>
        </p:txBody>
      </p:sp>
      <p:sp>
        <p:nvSpPr>
          <p:cNvPr id="16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abbreviated evaluation option includes:</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eacher Self-Assessment</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ofessional Development Plan</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wo Informal Observations (at least twenty minutes each)</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ummary Evaluation Conference </a:t>
            </a:r>
            <a:endParaRPr b="0" lang="en-US" sz="33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0" lang="en-US" sz="3300" spc="-1" strike="noStrike">
                <a:solidFill>
                  <a:srgbClr val="000000"/>
                </a:solidFill>
                <a:latin typeface="Calibri"/>
              </a:rPr>
              <a:t>(Standards One, Four, and Six)</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ummary Rating Form </a:t>
            </a:r>
            <a:endParaRPr b="0" lang="en-US" sz="33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0" lang="en-US" sz="3300" spc="-1" strike="noStrike">
                <a:solidFill>
                  <a:srgbClr val="000000"/>
                </a:solidFill>
                <a:latin typeface="Calibri"/>
              </a:rPr>
              <a:t>(Standards One, Four, and Six)</a:t>
            </a:r>
            <a:endParaRPr b="0" lang="en-US" sz="3300" spc="-1" strike="noStrike">
              <a:solidFill>
                <a:srgbClr val="000000"/>
              </a:solidFill>
              <a:latin typeface="Calibri"/>
            </a:endParaRPr>
          </a:p>
        </p:txBody>
      </p:sp>
      <p:sp>
        <p:nvSpPr>
          <p:cNvPr id="16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AC80-8288-43B4-BC56-D01FC210F6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0" name="Picture 2" descr=""/>
          <p:cNvPicPr/>
          <p:nvPr/>
        </p:nvPicPr>
        <p:blipFill>
          <a:blip r:embed="rId1"/>
          <a:stretch/>
        </p:blipFill>
        <p:spPr>
          <a:xfrm>
            <a:off x="0" y="0"/>
            <a:ext cx="9144000" cy="6078600"/>
          </a:xfrm>
          <a:prstGeom prst="rect">
            <a:avLst/>
          </a:prstGeom>
          <a:ln w="0">
            <a:noFill/>
          </a:ln>
        </p:spPr>
      </p:pic>
      <p:sp>
        <p:nvSpPr>
          <p:cNvPr id="164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9E94-5C7C-4DEF-93F4-8C850357D533}"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11-06T17:36:26Z</dcterms:modified>
  <cp:revision>108</cp:revision>
  <dc:subject/>
  <dc:title>RESA Implementation Sessions Day 2 Process</dc:title>
</cp:coreProperties>
</file>